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5D93-C2ED-4A1F-8F6D-0EA48989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BD36-3ADF-4E23-AA88-94A38BDC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8515-CD08-40BE-A698-7FDE361D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C369-8C36-4810-9BDE-89CC7F8E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5842-7849-40D5-ADA3-25C00AF6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E1F2-7220-4231-B2A1-EDCBE857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7213-01D0-44F0-B9A1-1506714D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3D95-B603-420F-9E4D-EA9ADFE2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4FC4-9727-497F-9810-016EC03E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B11B-0BF2-410D-BBCB-CA3120C0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1893-6D7B-4292-AE46-A979DDD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4D23-2DE1-4876-B0EE-F9D6349B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F92A-CD7E-41DC-A789-50CC1F3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710C-F480-488D-96CA-1887353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4402-35D7-48A2-8C07-5349C687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97D2-8A23-4E7D-BD62-7A855BE8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E724-3A5B-459C-AA40-DF728601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70CA-5FDE-4B95-8F37-256D6432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54DA-1BA4-414F-9467-941AFA6E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4508-08B4-4CAF-9655-1213B570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8861-E4A2-4B77-8D26-5E7F41D7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270F-12A8-4EF3-884D-D483E023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5A81-4E89-4E0F-8D20-62E6EB7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F868-4005-4C2A-8117-1A0E636D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E62C-C77D-46D6-8C06-776CF0295C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/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9072-8F6B-4AA5-ABF2-5C7F07B925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500" spc="-1" strike="noStrike">
                <a:solidFill>
                  <a:srgbClr val="ffffff"/>
                </a:solidFill>
                <a:latin typeface="Arial"/>
              </a:rPr>
              <a:t>Функционално програмиране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nh McCarthy,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разработчик на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SP (1958-5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669F-76CA-4C2A-B7D6-5441C09A27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S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cessing (LISP, Makkarti, 1950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ърво е описан като математически формализъ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обе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й-старият и най-разпространения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ного диалек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ървият</a:t>
            </a: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алект е з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BM 7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символна обработка и задачи от 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езтипов ез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фиксен запи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произволен брой аргумент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unname arg1 arg2 …arg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Механизъм на работ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Четене – оценка – отпечатв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me (1975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алек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укциите могат да бъдат стойности на изрази и елементи на списъци, могат да бъдат присвоявани на променливи и предавани като парамет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E527-8259-4A94-8DCB-1798C87A4E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имитивни изрази (обекти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то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Числа – цели и реални (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7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-2.3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нстанти -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#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true), 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#f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false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Символи – последователност от малки и главни латински букви, цифри и специални знаци без интервали, кавички и скоби (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ав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дентификатори – символи, започващи с буква и означават имена на обек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Числата не са символи. Символите представляват данни, процедури и идентификато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Низове – последователност от знаци, заградена с кавички (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“а в”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ци – наредена последователност от обекти, разделени с интервал и заградена с 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Обикновен –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 () 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nil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1 (2 3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мбинаци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Специална форма – всички вградени и потребителски процедури (функции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EFD9-9E6D-4428-B683-3F91EDE221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ценяван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исла – като самите себе 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мволи – в зависимост дали със символа е свързана стойност или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(ако а е несъвърза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rror/n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(ако а=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изове – като самите себе 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“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c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бикновени списъци – като гре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 (1 2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ециални форми – различно за всяка 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EF97E-9991-44A3-BCC8-89C51B80A6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Комбина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комбинацият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редставлява списък, чийто първи елемент е процедура (първият елемент се нарича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оператор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а останалите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операнди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процедура&gt; &lt;арг1&gt; ... &lt;арг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Оценяване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 Оценява се операцият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цедурата), като нейната оценка е процедурен обект, който представлява последователност от машинни инструкции, които реализират операцията. Оценяват се операндите. Накрая процедурния обект се прилага върху оценените операнд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(+ 1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(+ 1 2 3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едимство на префиксния запис: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изволен брой аргумен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380880" y="4417920"/>
            <a:ext cx="2895480" cy="1145520"/>
            <a:chOff x="-380880" y="4417920"/>
            <a:chExt cx="2895480" cy="1145520"/>
          </a:xfrm>
        </p:grpSpPr>
        <p:sp>
          <p:nvSpPr>
            <p:cNvPr id="140" name=""/>
            <p:cNvSpPr/>
            <p:nvPr/>
          </p:nvSpPr>
          <p:spPr>
            <a:xfrm>
              <a:off x="1981080" y="4417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4417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4417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466056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0" y="46465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380880" y="4646520"/>
              <a:ext cx="251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ff"/>
                  </a:solidFill>
                  <a:latin typeface="Arial"/>
                </a:rPr>
                <a:t>маш. инструкции, реализиращи опер. “+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3D7C-70B6-408A-AC82-E21442B014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имитивн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+, * - с 0 или повече параметъ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, / - с 2 или повече параметъ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rt –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дигане на 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500" spc="-1" strike="noStrike">
                <a:solidFill>
                  <a:srgbClr val="ffffff"/>
                </a:solidFill>
                <a:latin typeface="Arial"/>
              </a:rPr>
              <a:t>Примитивни предика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&lt;, =, 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, or,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d (&gt; x 5) (&lt; x 15)</a:t>
            </a:r>
            <a:r>
              <a:rPr b="0" lang="bg-BG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define (&gt;= x 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or (&gt; x y) (= x 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define (&gt;= x 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not (&lt; x 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0ABD-F19A-46B4-98DB-6A720C1952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Запишете в префиксна форма изразите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5+2*3)* (7-5/4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3*х-1)/((х+1)*(х+5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Оценете изразите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* (+ 1 6 2) 2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1 6 9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а вс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&gt; 1 5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(&lt; 2 1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7A8F-354C-4AC5-922B-1275B7B27C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Как се реализират базите от данни в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чрез релационни таблиц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чрез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чрез релационни таблици с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я съставна структура от данни не може да се реализира на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двоично дър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па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ножест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никоя от изброенит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не е част от експертните систем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операционна систем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база от зн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ашина за изв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требителски интерфейс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Ако променлива от целта не може да получи стойност в програмата, то: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роменливата остава свободна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грамата връща гре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менливата се свързва с произволна стойност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EAF6-6794-48AA-A2B4-6413020BBD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араметър на предикат може да бъд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входен или изходен в зависимост от желанието на потребител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входен или изходен в зависимост от програма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входен или изходен в зависимост от Пролог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или само входен или само изходен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В чистия логически език какво не може да им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обработка на списъц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рекурсия, присвояване и проверка за типов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намират множество от решения на дадена задач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чрез механизма на възвра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чрез метода на резолюция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чрез !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1778-206E-4887-9552-50B55B6126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Как се реализират базите от данни в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чрез релационни таблиц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чрез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чрез релационни таблици с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я съставна структура от данни не може да се реализира на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двоично дър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па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ножест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d. никоя от изброенит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не е част от експертните систем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операционна систем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база от зн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ашина за изв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требителски интерфейс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Ако променлива от целта не може да получи стойност в програмата, то: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променливата остава свободна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грамата връща гре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менливата се свързва с произволна стойност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28D2-B1B7-482D-8EF2-07D5467ACF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араметър на предикат може да бъд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a. входен или изходен в зависимост от желанието на потребител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входен или изходен в зависимост от програма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входен или изходен в зависимост от Пролог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или само входен или само изходен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В чистия логически език какво не може да им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обработка на списъц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b. рекурсия, присвояване и проверка за типов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намират множество от решения на дадена задач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b. чрез механизма на възвра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чрез метода на резолюция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чрез !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5A1C-425B-43CC-98E1-03A49857DD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500" spc="-1" strike="noStrike">
                <a:solidFill>
                  <a:srgbClr val="ffffff"/>
                </a:solidFill>
                <a:latin typeface="Arial"/>
              </a:rPr>
              <a:t>Въведение във функционалното програмиран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еоретичен мо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собености на функционалните ези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идове функционални ези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Лис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митивни обек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еханизъм на работа. Оценяв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мбин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митивни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2AF0-7B7D-4464-B89F-F63D6FE224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оретичен модел на функционалните ези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математически функции и </a:t>
            </a:r>
            <a:r>
              <a:rPr b="0" lang="he-IL" sz="2600" spc="-1" strike="noStrike">
                <a:solidFill>
                  <a:srgbClr val="ffffff"/>
                </a:solidFill>
                <a:latin typeface="Arial"/>
                <a:cs typeface="Arial"/>
              </a:rPr>
              <a:t>ג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-смятането (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lonzo Church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за дефиниране на функции без име –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lambda 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функции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(Alonzo Church, 194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Бекус, 1978 поставя началото на функционалния стил за програмиране, използващ примитивни форми, дефиниции или функционални форм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7B0E-CD07-4E80-855C-066633C998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собености на функционалните ези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инственото действие е обръщението към функ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инствения начин за разделяне на програмата на части е въвеждането на име на функция и задаването на това име на израз, който пресмята стойността на функцията </a:t>
            </a:r>
            <a:r>
              <a:rPr b="0" lang="bg-BG" sz="19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 програмите представляват дефиниране на функ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инственото правило за композиция е суперпозицията на функции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Не използват променливи и оператори за присвояване </a:t>
            </a:r>
            <a:r>
              <a:rPr b="0" lang="bg-BG" sz="19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 итеративните конструкции не са възможн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овторенията се реализират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накво представяне на код (функции) и данн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Изпълнението на функция винаги дава същия резултат  при същите входни парамет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роста семантик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Задават множества от примитивни функции и функционални форми за конструиране на съставни функции, операции, и някои структури за представяне на данн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Използват се по-често интерпретато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715D-AD52-4AE2-B0A1-92CD5371BC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Видове функционални ези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Чист функционален ези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правляващите конструкции са функциите, функциите не допускат странични ефек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–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ЧИС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P,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kell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PE, Miranda, FP, 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чист функционален ези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правляващите конструкции са функции и императивни конструкции, функциите допускат странични ефек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me, Common Lisp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L(1980), Golden Lisp,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... (диалекти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P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Логически и функционални езиц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, F, R, HASL, FUNLOG, QUTE, LOGLISP, QLOG, PIL, W, Prolog-with-Equality, EQLOG, TABLOG, UNICORN, Pop-11, LEAF, APP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00E0-B5B8-47C4-BEE4-3B0B1F97CB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1-09T08:01:40Z</dcterms:modified>
  <cp:revision>161</cp:revision>
  <dc:subject/>
  <dc:title>Функционално програмиране</dc:title>
</cp:coreProperties>
</file>