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5DCF-1A10-45D4-800A-8B067744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C586-30CE-4032-BE4D-90CE22AA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5749-4F5D-4C25-A81C-1EE3FD15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DF3E-CAFC-4D29-86FB-9DD4E270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FD4C-8D30-48F2-A2D9-933FF358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DF8E-8270-4E97-94A5-4DC7510C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C77-AC80-439C-8BDD-4D03C4A3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166E-D13A-4BCC-A0F5-DC3F5F68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E591-5E1E-4C93-B76A-A634B288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6D8B-3ADF-4F1C-A990-39C1CAFF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DFCE-074E-4F0B-9175-06E0E18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AC26-F483-4102-89F4-00BC7A77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F5B7-73AF-4FB0-84A2-4BFA84F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186-62B9-44B0-9457-EAF4F53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1DB8-6C6F-4C31-BD0B-414EA378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24F2-9C61-428D-A07A-556196A0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B6E-5EB8-4512-885B-593CE208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12B3-0A75-4C1C-9D7A-3722E45D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AE8A-4011-419F-9EE6-222D9DC7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9BC8-1C2C-45EC-AC71-3F1372D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0954-68D5-471A-A665-D4781F5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3EAC-3C7B-4732-9774-CECD38E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3092-EDBF-4409-9D85-0BDE421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1EFE-F017-4F46-92C2-E23392A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DC0B-0A2F-4719-8AEE-9187CF98E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1FE9-FAF1-46C8-9E44-065F2C6686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ид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ат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разен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примитивна функ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няма тако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e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ярно за Лисп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може да се променя синтаксис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може да се променя семантикат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реализира се само чрез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2EDC-0E5B-48E8-B34E-02841F134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очкова двойка (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израз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ределение: всеки атом е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зраз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; ак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с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и, 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.Y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–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нструи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1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стъп до частите на точковата дво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r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очкова двой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r ‘(1.2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rst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cd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очкова двой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cdr ‘(1.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st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F9A6-ED2A-4143-B06B-331338185F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ставен обект, вграден в Лис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a1 (cons a2 … (cons an nil) … 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1.(a2. … .(an.nil) … )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значаваме 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1 a2 … 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азен 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()=nil=#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нстру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ist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&lt;елемент_1&gt; &lt;елемент_2&gt; ...)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ist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1 2 3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list 1 ‘(2 3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1 (2 3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ns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s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‘(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cons ‘(1 2) ‘(3 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end  &lt;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1&gt; &lt;списък2&gt;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   (1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1 2) 3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остъп до частите на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r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писък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 ‘(1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 ‘((1 2) (3 4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rst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1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dr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cdr ‘(1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dr ‘((1 2) (3 4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st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3 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411C-6444-47E1-B957-304056C29F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исъц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(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(a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/ni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(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(a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/(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(cons ‘a ‘(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(cons’() ‘(a 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() a 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4517-DD15-4067-9A3D-F1FAFACDF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бработка </a:t>
            </a:r>
            <a:br>
              <a:rPr sz="3900"/>
            </a:b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на 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6483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роя на атомите в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br_a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atom? l)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+ (br_a (car l) (br_a (cdr l)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едение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дигане на квадрат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ки елемент на списъка да се увеличи с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простите числа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числата на Фибоначи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азен 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[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]=nil=#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 алгорит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роя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ength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1 (length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и елемент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_el n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 (car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 n_el (- n 1)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4D1A-1255-4A10-9036-26B1964CB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Конструирайте списъка 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чрез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Извлечете от списъка ((3 4) ((5)) 2)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(3 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0BE4-1AC7-4EE9-9A60-B7B255BCE4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кода представлява дефиниране на променливи и функ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итежават оператори за присвоя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вторенията се реализират чрез цикл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кода и данните имат еднакво представя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й е механизма на работа н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механизъм на възвра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етод на резолюция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четене-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e. функционален механизъм на Лисп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лко аргумента може да има умножението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не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точно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изволен брой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не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вид запис се използва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ре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ост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ин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13BB-ECEF-49FF-B224-74A54C084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ид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c. ат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разен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примитивна функ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d. няма тако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e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ярно за Лисп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може да се променя синтаксис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може да се променя семантикат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d. реализира се само чрез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A47B-1D84-42A1-A24E-CE15F58A0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кода представлява дефиниране на променливи и функ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итежават оператори за присвоя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вторенията се реализират чрез цикл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кода и данните имат еднакво представя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й е механизма на работа н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механизъм на възвра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етод на резолюция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четене-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e. функционален механизъм на Лисп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лко аргумента може да има умножението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не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точно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произволен брой</a:t>
            </a: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не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вид запис се използва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ре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ост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ин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56EB-CFE1-4D7C-8165-216CD1CC12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чкова дво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бработка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EF53-F61F-4961-B0F1-FF573FB36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ределение – функции, връщащи логическа стой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q?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rg1 arg2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ите са еднакви атоми,иначе връща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q? ‘a ‘a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&gt;(eq? ‘a ‘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&gt;(eq? ‘a ‘(a b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q? ‘(a b) ‘(a 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list? ar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а е списъ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(x y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null? arg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а е празен списъ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x y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(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EA3A-D754-4CF7-9BAB-6D87069D3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&g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n?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роверява дали аргумента е четн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d?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– проверява дали аргумента е нечетн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zero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проверява дали аргумента е ну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che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квивалентност при символн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квивалентност при числов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v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квивалентност при символни и числов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Функции за изх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ispla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израз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печатва на ек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ewl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ов р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ABDA-B00D-4870-BF33-C6A2DC0F68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ote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ръща неоценения об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quot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quote (1 2 3)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‘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’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ръща като резултат оценения изра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ниверсална функция, която може да оцени всяка друга функ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може да се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ползва като интерпретатор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arthy, 196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val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expr '(+ 3 4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y 1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3 4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x '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expr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(list + 3 4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x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2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''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A4D1-2503-4B6D-B064-77C704CF19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ява условен_израз_1, ак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оценява условен_израз_2 и т. н. докато се получи оценк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След това се оценява съответния списък от изрази и получената оценка се връща като оцен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израза. Оценката на списък от изрази е оценката на последния израз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никои условен израз не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връща оценката на списъка от изрази сле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(cond 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&lt;условен_израз_1&gt; &lt;списък_от_изрази_1&gt;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имер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ond ((&gt; x 0) x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&lt;условен_израз_2&gt; &lt;списък_от_изрази_2&gt;)</a:t>
            </a: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(&lt; x 0) (- 0 x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else 0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else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 &lt;списък_от_изрази&gt;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оценява се условен_израз и ак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получава като оцен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раза оценката на израз_1, иначе се получава оценката на израз_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&lt;условен_израз&gt; &lt;израз_1&gt; &lt;израз_2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f (&gt; x 0) 1 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4B7B-C5EE-4B96-B50E-C3921D242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16T07:44:46Z</dcterms:modified>
  <cp:revision>156</cp:revision>
  <dc:subject/>
  <dc:title>Функционално програмиране</dc:title>
</cp:coreProperties>
</file>