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81F4-D7AD-40C0-98BB-1EAC28EC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3B8B-8751-4FD2-ADAD-A2A3E0CF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7F20-F468-482A-849F-9884650D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37DA-5C10-429A-8DF1-224DF7DC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B09B-2D65-42A3-B9EC-A6DEB9E3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CB0E-66EB-45D5-B13C-F1E613DB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25E6-EE0D-46AE-B1CD-1F08B711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3E64-57ED-4BA8-A3E3-9813CF06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C005-260F-4942-A32A-16140633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99C1-1679-4FAD-9F20-988DEA23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E2AF-7AD6-4D20-91B7-423DC974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9C3F-1E85-4BDA-9314-B7A297A8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3EEB-CFBF-4FED-A95D-59DDFB86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4BE7-37ED-4FED-88C1-79238E55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4254-9BF9-4CC9-97A1-36D3B5B6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BDFB-6855-401C-B52E-A9018D13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06D1-46FC-4CE4-ABFA-BD23A4E7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99D3A-3941-449B-8E87-BAEA7615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39F06-8AB8-4644-AB79-C59D58F8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A980-1FE8-42D9-BEEA-BB2D0CF8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A2A9-76BC-4200-AC10-7AFC4E33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C7D2-FFC4-4486-9567-2A9E4421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E64E-8E3B-4575-999B-EEEE660C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3741-59DC-4540-92FF-F6934631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000F-5707-4E8D-BB46-EB8FFB1919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9F4C-521B-48C0-A3B6-A4D981FF46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9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й модел за оценяване на функциите е по-добър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апликативен моде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нормален модел на заместван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еднакво добри 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й алгоритъм е по-добър: дървовидна рекурсия или линейна итераци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и двата са еднакво добр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дървовидна рекурси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линейна итер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тложените умножения са специфика на кой проце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на линейната итер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на линейната рекурс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и при дв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B47D-34A0-4907-95BB-BBB9D7761C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accumulate oper nullval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a b) nullval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oper (item a) (accumulate oper nullval (next a) item b next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accumulate oper nullval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accum-iter i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i b) s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accum-iter (next i) (oper s (item i)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accum-iter a nullva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 a item b next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accumulate + 0 a item b nex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product a item b next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accumulate * 1 a item b nex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7279A-1BA4-4035-AE9B-AA3A522BA0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filter-accum pred oper nullval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ond ((&gt; a b) nullv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(pred (item a))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oper (item a) (filter-accum pred oper nullval (next a) item b next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else (filter-accum pred oper nullval (next a) item b next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filter-accum pred oper nullval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filter-iter i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ond ((&gt; i b)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(pred (item a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filter-iter (next i) (oper s (item i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else (filter-iter (next i) s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filter-iter a nullva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чи: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) Сума на четните числа от а до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) Произведение на простите числа от а до в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4E7D8-4A95-45D8-80FE-92ADB44CAA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ърсене на елемент в редиц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(a), …, f(b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 релация 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efine (found rel x a item b next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cond ((&gt; a b) #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(rel (item a) x) #t)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else (found rel x (next a) item b next)))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8F84-BE13-4048-A833-6F830C7554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ума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m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+ (car l) (sum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изведение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oduct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* (car l) (product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ccumulate oper nullval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null? l) null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oper (car l) (accumulate oper nullval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 = {+, *, cons, append, …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m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ccumulate + 0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oduct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ccumulate * 1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761D-0E30-4BA6-A658-21B7853225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вдигане на квадрат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quare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‘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s (square (car l)) (square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секи елемент на списъка да се увеличи с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+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‘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s (1+ (car l)) (1+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p f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null? l) ‘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ons (f (car l)) (map f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quare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p square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+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p 1+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4C75-1F56-4B4D-8959-9BA8D56E67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 от простите числа от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ime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d ((null? l) ‘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prime? (car l)) (cons (car l) (prime_list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lse (prime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 от числата на Фибоначи от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b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d ((null? l) ‘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fib? (car l)) (cons (car l) (fib_list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lse (fib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lter pred?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ond ((null? l) ‘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(pred? (car l)) (cons (car l) (filter pred?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else (filter pred?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ime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lter prime?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b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lter fib?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334120"/>
            <a:ext cx="3581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умата от кубовете на четните числа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sum3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accumulate + 0 (map cube (filter even?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219D-587A-4D26-BF28-19BA0530F5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Ламбда израз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ефиниране на процедура “анонимно”, т. е. без да се свързва с и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интакси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ambda (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&lt;формални параметри&gt;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тяло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ценка: същата е като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изразите, разликата е, че няма свързване с и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ambda (e) (car (cdr e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lambda (e) (car (cdr e))) ‘(a b c)) e –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свързана променл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sum1 a b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1 a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term x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 (lambda (x) (* x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* x x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next x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ambda (x) (+ x 1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+ x 1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 term a next b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DEAC-8D20-4E8F-A247-B71E252360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Ламбда израз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Вместо име на процедура име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efine (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име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формален параметър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тяло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  <a:ea typeface="Arial"/>
              </a:rPr>
              <a:t>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efine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име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ambda 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формални параметри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тяло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Като оператор в комбин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ambda 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 ... 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&gt;)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тяло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 ...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  <a:ea typeface="Arial"/>
              </a:rPr>
              <a:t>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et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9AD5-77E2-4CDA-9DCD-FB941EC713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Локални променлив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ременно свързване на променливи с оценките на изра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et 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тяло&gt;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вързването на променливите с изразите става е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а 5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let ((a 7)) (* 5 a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바탕"/>
                <a:ea typeface="바탕"/>
              </a:rPr>
              <a:t>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lambda (a) (* 5 a)) 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+ *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+ a b)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4B98-65D3-41B9-B6A7-D641AECAC5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Локални променлив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за реализиране на влож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израз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et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тяло&gt;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ценяване – оценява се изра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1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се свързва с пр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1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т. н. Ако при оценяването на изра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2, в него се среща пр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1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то се използва вече свързаната с нея оценка на изра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1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т. 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t ((x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t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x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let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* x 2)))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* x 2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let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z (+ x y)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z (+ x y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+ x y z))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   (+ x y z)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8E74-7021-4221-948F-58C22B0DA5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9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името на формален параметър на вложена дефиниция да съвпада с името на формалния параметър на външната дефиниция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зависи от реализацията на Ли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името на вложената функция да е същото като на външната процедур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зависи от реализацията на Ли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во представлява блок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вложени дефини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тяло на външна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вложени дефиниции + тяло на външна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задължително за една рекурсия за да не се зацикл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рекурсивното извикване да е с променени парамет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да не се пишат две рекурсивни извик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условие за кра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E6BB-33D9-4A07-955C-71DFA12A70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Функции като връщани стойност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)=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(x)=3*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(x)=(f(x+dx)-f(x))/dx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оизволно достатъчно малко чи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mbda (x)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е се знае коя функция се получ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 (+ x dx)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ато резулт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(derive f dx)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цедура намираща производн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mbda (x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 (+ x d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((derive cube 0.001) 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5.0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DA35-C3D9-4848-A852-FB1B2F442D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Напишете функция от по-висок ред за изчисляване сумата на квадратите на четните числа от 1 до 100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Напишете функция от по-висок ред за изчисляване на произведението на елементите на списъка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, които са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&lt;50 </a:t>
            </a: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и &gt;10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0513-2F2C-4F20-9C71-0235D2A72D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9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й модел за оценяване на функциите е по-добър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3300"/>
                </a:solidFill>
                <a:latin typeface="Arial"/>
              </a:rPr>
              <a:t>a. апликативен моде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нормален модел на заместван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еднакво добри 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й алгоритъм е по-добър: дървовидна рекурсия или линейна итераци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и двата са еднакво добр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дървовидна рекурси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3300"/>
                </a:solidFill>
                <a:latin typeface="Arial"/>
              </a:rPr>
              <a:t>c. линейна итер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тложените умножения са специфика на кой проце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на линейната итер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3300"/>
                </a:solidFill>
                <a:latin typeface="Arial"/>
              </a:rPr>
              <a:t>b. на линейната рекурс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и при дв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CC7D-498E-48FE-8250-D34E3D0117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9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името на формален параметър на вложена дефиниция да съвпада с името на формалния параметър на външната дефиниция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b. 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зависи от реализацията на Ли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името на вложената функция да същото като на външната процедур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зависи от реализацията на Ли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b. 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во представлява блок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вложени дефини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тяло на външна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c. вложени дефиниции + тяло на външна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задължително за една рекурсия за да не се зацикл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рекурсивното извикване да е с променени парамет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да не се пишат две рекурсивни извик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c. условие за кра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305A-38EC-4552-B2A6-50EDCF3E1E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пределение и видо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Ламбда израз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Локални променли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Функции като връщани стой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EA15-CEDF-4AF1-BE9B-5158886857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500" spc="-1" strike="noStrike">
                <a:solidFill>
                  <a:srgbClr val="ffffff"/>
                </a:solidFill>
                <a:latin typeface="Arial"/>
              </a:rPr>
              <a:t>Определение и видов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Определение: Функция, чийто параметър е функция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или връща като стойност функция или и двете (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unctional form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Видов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омпозиция на функции – резултата е едната функцията, приложена върху резултата на другата функцията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в оригиналния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isp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(x)=x+2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(x)=3*x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6699"/>
                </a:solidFill>
                <a:latin typeface="Arial"/>
              </a:rPr>
              <a:t>h(x)=f(g(x))=(3*x)+2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cdr (cdr ‘(a b c)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онструкция – приема като параметър списък от функции, тези функции се прилагат към аргумента и резултатите се връщат като списък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(x)=x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(x)=2*x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(x)=x/2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6699"/>
                </a:solidFill>
                <a:latin typeface="Arial"/>
              </a:rPr>
              <a:t>[g, h, f] (4) -&gt; (16, 8, 2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Прилагане – приема като параметър една функция и се прилага към списък с аргументи, като резултата от прилагането се връща в списък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(x)=x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666699"/>
                </a:solidFill>
                <a:latin typeface="Arial"/>
                <a:ea typeface="Arial"/>
              </a:rPr>
              <a:t>α</a:t>
            </a:r>
            <a:r>
              <a:rPr b="0" lang="en-US" sz="1900" spc="-1" strike="noStrike">
                <a:solidFill>
                  <a:srgbClr val="666699"/>
                </a:solidFill>
                <a:latin typeface="Arial"/>
              </a:rPr>
              <a:t>(h, (2, 3, 4)) -&gt; (4, 9, 16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cheme: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define (mapcar fun li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cond ((null? Lis) ‘(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else (cons (fun (car lis)) (mapcar fun (cdr lis))))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&gt;(mapcar (lambda (x) (* x x)) ‘(1 2 3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1 4 9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A04F-F0EA-4749-B7E7-01FF405B3F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1) а+(а+1)+...+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) a</a:t>
            </a:r>
            <a:r>
              <a:rPr b="0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+(a+2)</a:t>
            </a:r>
            <a:r>
              <a:rPr b="0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+…+b</a:t>
            </a:r>
            <a:r>
              <a:rPr b="0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sum1 a b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sum2 a 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if (&gt; a b) 0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if (&gt; a b)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+ a (sum1 (+ a 1) b))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+ (cube a) (sum2 (+ a 2) b)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efine (sum a item b next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if (&gt; a b) 0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+ (item a) (sum (next a) item b next)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) (define (sum1 a b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) (define (sum2 a 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sum a id b +1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sum a cube b +2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Задача: 1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*(а+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+ 1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а+4)*(а+6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+ ... + 1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*(b+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6117C-633B-41F0-9CFB-25E3745E97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1) а+(а+1)+...+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) a</a:t>
            </a:r>
            <a:r>
              <a:rPr b="0" lang="en-US" sz="2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+(a+2)</a:t>
            </a:r>
            <a:r>
              <a:rPr b="0" lang="en-US" sz="2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+…+b</a:t>
            </a:r>
            <a:r>
              <a:rPr b="0" lang="en-US" sz="2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1 a b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2 a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-iter1 i s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-iter2 i s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&gt; i b) s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&gt; i b)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-iter1 (+ i 1) (+ s i))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-iter2 (+ i 2) (+ s (cube i)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-iter1 a 0)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-iter2 a 0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sum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sum-iter i s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i b) s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sum-iter (next i) (+ s (item i))))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sum-iter a 0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) (define (sum1 a b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) (define (sum2 a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 a id b +1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 a cube b +2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ча: 1/(а*(а+2) + 1/(а+4)*(а+6) + ... + 1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*(b+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566C-9494-4F50-BEAF-E17891CFA2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(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*…*f(b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product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a b) 1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* (item a) (product (next a) item b next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product a item b nex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product-iter i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i b) p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product-iter (next i) (* p (item i)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product-item a 1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) n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fact n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id x)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product 1 id n 1+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F0B79-FF31-4515-BA6E-97AE97B51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54:40Z</dcterms:created>
  <dc:creator>Elena Somova</dc:creator>
  <dc:description/>
  <dc:language>en-US</dc:language>
  <cp:lastModifiedBy>presentation</cp:lastModifiedBy>
  <dcterms:modified xsi:type="dcterms:W3CDTF">2007-11-30T08:21:34Z</dcterms:modified>
  <cp:revision>159</cp:revision>
  <dc:subject/>
  <dc:title>Функционално програмиране</dc:title>
</cp:coreProperties>
</file>