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C06C-051C-4B5A-92D3-6C1DE8A3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8F87-2FC4-4B5E-8F20-07AA23A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1D73-66A7-412F-85FD-EA84C61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7150-DC03-4857-AB26-D1DA9A58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ABC-2E15-4AD4-B977-6364B4E3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62DC-1203-46B2-8A3F-307BB041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85E-CB14-4D45-B184-B15A4BB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1BE9-6A46-47F4-B50E-EF0569E6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F0CD-47C5-450A-A46B-87969B1D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EC19-3817-429B-914F-668511DB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E27-A86F-483D-B5BA-38900D3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E591-D364-4CE5-AB44-C960E36C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F105-9DD0-46B4-BBD9-1716966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97D-DF49-4A46-A024-1837313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C64-A9BC-45EF-AB90-3715522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2C2-9375-4519-886D-FEA539C3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2CA8-E7BF-4904-8CEE-C710EBA4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EA02-635B-470B-8E6B-8DA625EA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03D7-DD16-45A9-9E2F-952637FB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F29F-2041-4B8C-A3B1-6E2C32E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3B48-3483-4512-B5F5-93CD2C0B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BBC4-0157-44D0-9518-F379698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4750-BCE2-4BE3-A0D6-737EEB1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85C7-BE06-4886-ABF5-22081D9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8DC-F0A2-415F-8642-82E2B6774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8EEE-F998-4932-B1F3-DC0748FF2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3704-7509-4AB3-B7D9-B0947B3F2A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ционални числа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точкова двойк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, q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rat n 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n d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umber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nom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d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+rat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make_rat (+ (* (numer x) (denom y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numer y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denom y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нстру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конструиране на съставна структура от примитивни структу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еле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извличане на компонентите на съставна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0F01-2D4F-480A-8DC1-199A2DA53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воично дърво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ot left righ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tree root left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 root left right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oo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f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igh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leaf?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nd (null? (left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ull? (right tre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4A90-1573-4D70-8F8D-2B5DADE09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ашка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first-ptr last-pt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q (make-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)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lete-queue! 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1388-C366-4718-92B1-5E11A1438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fir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la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d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fir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a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la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d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empty-queue?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null? (first-ptr queue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make-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ons nil nil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620A-1B31-4855-86D6-208CBB33E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nsert-queue! queue it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et ((new-pair (cons item nil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first-ptr queue)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lete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deleting an element from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(cdr 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0AF5-B8DF-4CFE-964A-45B9F87E57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(first queu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t-queue! (delete-queue! queue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irst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first is called for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(first-ptr 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5C82-15C7-43E1-8BC8-1671ED9B57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рез разрушаващите функции от списъка (1 2 3 4) получете списъка ((3 5) 7 8 9), а след това списъка ((3 5) (1 2) 8 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ставете по подходящ начин комплексното число в Лисп, заедно с операциите за конструиране, извличане на частите от числото, събиране и изважда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C9E3-AE1F-44C2-8BA2-6A606B671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7C3E-A681-43D4-9D59-12D9BF1218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2DA3-68DB-491C-9F9A-8368298CC9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2DFF-3075-4D62-A6CE-EDEA8DBB3D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C8FB-6F91-4987-86DC-8E39A3F9D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5C01-80B9-4EEC-ADD7-3FC8F89E1A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КЛЮЧИТЕЛЕН ТЕ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пълниха ли се Вашите очаквания от дисциплина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о още бихте желали по отношение на материала и преподаване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руги комента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лекци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упражнения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 за Вашите знания до мо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60D1-F4BB-4392-8B39-ACF34B292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В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7B19-B501-4CEA-9078-7A88948F12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 се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E1F0-6AFC-489C-A26C-8F8AA0930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89FD-6351-4D48-95D1-F4DB0B9B4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.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9148-D96E-4412-868D-A25F9D64C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м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се израза. Резултата от оценяването зависи от реализацията. По стандарт е неопределен. Като страничен ефект се разрушава съществуващата връзка на името с обект и се създава нова връзка с оценката на израза. Името трябва да е свързано преди обръщението къ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define x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x (+ x 5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a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зрушаващите процедури не могат да се оценяват чрез апликативния мо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3671-8651-4B5E-BE73-38959C9CD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e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с оценка точкова двой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 произволен из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глав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ar! x 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 b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84AE-C41D-410E-A543-BD8BD49AC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опашк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y ‘(e 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dr! x y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a b) e 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DC0E-1016-4A1A-83CF-CD2DF134F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38320" y="1371600"/>
            <a:ext cx="4038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Разрушаващи процеду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304560"/>
            <a:ext cx="7620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Реализация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то резултата се връща в първия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ppend!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last x)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ast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(cdr x))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st (cdr x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изключване 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я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delete! l 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! l (cdr l))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-cdr! (n_sub_list (- n 1) l) (cdr (n_sub_list n 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sub_list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_sub_list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950E-2037-4406-A5DE-72447D0EAC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2-07T08:01:19Z</dcterms:modified>
  <cp:revision>160</cp:revision>
  <dc:subject/>
  <dc:title>Функционално програмиране</dc:title>
</cp:coreProperties>
</file>