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3CF-190B-427D-B193-C9B3DEFE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7D6-1372-4BAC-B313-C0AA59D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31D-D60D-40BF-B3E4-6CE3B10B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0BC-469E-4E00-9A90-E4B3CC35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7E7B-6B07-4401-BD6D-566FF6D6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B56E-D950-4446-9BF2-EB80B3F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45F9-D3E6-4203-BDA1-D7B45785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2494-1284-47A0-8C9A-2B45CE1E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CA45-5FCD-48A5-8462-DAB024CF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65F7-10E1-4FDB-821A-95605F16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E83-AC0A-474B-98E8-A021BD0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955-62B4-4931-845D-EDFEA67E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AE42-B734-44C5-96B4-D84CF07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628-5FD4-4E01-B960-CDF1DA7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BB2A-37BD-4F9B-ABCF-F28E3B36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A837-0616-4AE3-9EBE-CD040919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40F-BBB7-49E6-BA87-CA1CD8FE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2F1-E724-4FE6-AE88-21433D2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012-58B0-4F3C-82F1-AA7DBC4E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50F-3D7A-45EC-91BA-076A08CF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35B-4BB4-4A5C-A9A8-D53E4844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A71-490B-45F6-9BDA-169D3C3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42F-05F6-4111-A15C-B2C0126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3FA-4AC0-4393-A4C7-DC5970E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7E8-9B94-4DB9-9A40-BE66767160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4006-B8E8-40D3-BC7A-475EB2DE84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Логическо и функционално програмира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ц. д-р Елена Со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У “Паисий Хилендарск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. “Компютърна информатик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eledel@pu.acad.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D26-BA73-4D0A-B03F-8D2B36D0C8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икатно смятане от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ре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Константат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Променливат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e n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тна функция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, …, t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терми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t1, …, tn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местен предикат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1, …, t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терми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(t1, …, tn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атомарна форму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термите се конструират аргументи на предикати и функции, а чрез предикатите и функциите се изразяват твърд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Атомарната формул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правилно построена формула (формула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формули, 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формул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формул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а, 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X(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X(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а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формул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Литера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атомарна формула или отрицание на атомарна форм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Свободната променли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променлива без квантор отп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Затворена форму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формула без свободни променли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CD0-BA73-432A-B00F-1F08B4A730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Ще разглеждаме затворени формули. Чрез еквивалентни преобразования формулите се привеждат в клаузна фор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100" spc="-1" strike="noStrike">
                <a:solidFill>
                  <a:srgbClr val="4f917e"/>
                </a:solidFill>
                <a:latin typeface="Arial"/>
              </a:rPr>
              <a:t>Клауз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е нарича дизюнкция на краен брой литера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кони за привеждане на дадена формула в клаузна форм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2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омутативн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4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истрибутив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6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 де Морг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войното отриц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 ≡ (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(X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Y(A(Y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(X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Y(A(Y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F19-EF14-44C8-B909-69AD344FC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ла за привеждане на дадена формула в клаузна фор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еквивалентности и имплик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8 и 9 зак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(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умен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граничаване на отрицанието (чрез 5, 6, 7, 10 и 11 зак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зделяне на променливите (чрез 11 и 12 закон) – всеки квантор с неизползвана променли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астлив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ъжен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астлив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(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ъжен(У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5E6-05EE-453D-A955-426BBDC3D2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лиминиране на квантора за съществу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a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ъдето а е съществуващия об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образуване в префиксна фор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,f(X,Y)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,f(X,Y)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ждане в конюнктивна нормална форма (конюнкция от дизюнк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r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a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q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a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(q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квантора за всеобщност – т. к. се разглеждат само затворени формули, всички променливи са свързани с този кван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581-7487-446C-AD8B-9A66AC9348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конюнкци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1 и 2 закон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. к. реда в конюнкцията е без значение можем да замени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C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D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ножеството с форму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A, B, C, D}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Да се преобразува в клаузна форма формулат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1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2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4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6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7. 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8. {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12D-0C9D-4B28-815F-316E9577D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ообразен запис на 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сяка клауза има ви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закона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)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заменим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,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;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⇒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: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; L; M; … :- P, Q, R, 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прологообразен запис на клау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дете в прологообразен запис множеството от клаузи: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{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; s(X) :- p(X)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 :- p(X), r(X,f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EB6-7BBB-47DD-BBE6-0DEBD2B45B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ообразен запис на 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дете в прологообразен запис формулата: човек(петър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петър)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Х, У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{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петър), майка(иванка, петър),  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Х, У)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Х)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Х) :- човек(У), майка(Х, У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- майка(иванка, 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4D5-1ACF-46DF-A1CA-2F818D15A7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дача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ставете в термините на предикатното смятане от първи ред твърдения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п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2000 лв в банка Хеб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кола и 2000 лв в банка Хеб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ли Мария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ария има кола, то Иван също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ария има кола, то Иван има кола и п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пишете формулата в клаузна форма и в прологообразен запи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(животно(Х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∀У(животно(У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(У, Х)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ъв(Х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2D5-7C35-4346-AD45-40838FF2BE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ВАРИТЕЛЕН ТЕС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и са очакванията Ви от тази дисципл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те ли желание да правите домашни рабо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те ли желание да правите курсови проек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о мислите (нужен ли е) за семестриалния контро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и задачи предпочитате да решавате на упражнения – стандартни или творчес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лко често смятате да посещавате лекции и защ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лко често смятате да посещавате упражнения и защ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1F8-89FB-4436-9AF1-4F1DEDE6D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Times New Roman"/>
              </a:rPr>
              <a:t>Логическо програмиран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Kowalski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изследовател в областта на изкуствения интелект. Заедно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in Colmerauer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pe Rousse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 разработили първия логически програмен език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3935" r="7253" b="2178"/>
          <a:stretch/>
        </p:blipFill>
        <p:spPr>
          <a:xfrm>
            <a:off x="6324480" y="762120"/>
            <a:ext cx="2273400" cy="27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E87B-520D-4B1E-B7FD-353C865621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Пролог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Лисп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ците за логическо и функционално програмиране се използват предимно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тематически пресмят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областта на изкуствения интел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бота с Б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fld id="{9276E403-C97A-4D93-86DB-F4B57C62C8D2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fld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B83-33D9-4349-ABE3-D2B5F798BD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Пролог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Лисп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ците за логическо и функционално програмиране се използват предимно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тематически пресмят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в областта на изкуствения интел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бота с Б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fld id="{4B3C511B-EAE9-4E8F-A2A4-7655EA48AD01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fld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AF4-CE57-4125-80D8-3C7D719A39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МАТЕМАТИЧЕСКИ ОСНОВИ НА ЛОГИЧЕСКОТО ПРОГРАМИРАН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ждително смя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икатно смятане от първи 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л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авила за привеждане в клауз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ологообразен запис на кл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31F-10C9-4D03-A7D1-755FF1B98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Съждително смятан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ементи на формална система – азбука, множество от допустими изрази (формули), правила за образуване на нови формули (правила за извод), фиксирано множество от правилно построени изра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Съждително смят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й-малките различими обекти са съжд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станти – за верни и грешни факти: истина (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лъжа (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ждителни променливи – за произволни фа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 съю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 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мволи за пунктоация –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те константи са съ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ите са съ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но съждение може да се образува от по-прости съждения, свързани с логически съюз: конюнция, дизюнкция, импликация, еквивалентност, отриц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686-EC92-4665-9D4B-B35A914D6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Съждително смятан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ин съждителен символ се интерпретира като произволен фа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– съждителна променлива -&gt; факт “Пловдив се намира в България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Логическите константи се интерпретират като верен или грешен фа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но съждение състоящо се от 1 символ е вярно, ако факта, с който е свързан е вер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но съставно съждение се интерпретира в зависимост от използваните логически съюз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таблица на истинностт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: всяко съставно съждение може да се представи като съставно съждение чрез логическите съюзи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7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4f917e"/>
                </a:solidFill>
                <a:latin typeface="Arial"/>
              </a:rPr>
              <a:t>Закони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за еквивалентни преобразован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 = 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 = 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ута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 = 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 = 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социа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= 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= 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дистрибу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=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=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(на де Морг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= А (за двойното отриц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= 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, T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A, T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T, F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F, F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24320" y="4044960"/>
          <a:ext cx="3886200" cy="1365120"/>
        </p:xfrm>
        <a:graphic>
          <a:graphicData uri="http://schemas.openxmlformats.org/drawingml/2006/table">
            <a:tbl>
              <a:tblPr/>
              <a:tblGrid>
                <a:gridCol w="544680"/>
                <a:gridCol w="544320"/>
                <a:gridCol w="544680"/>
                <a:gridCol w="542880"/>
                <a:gridCol w="566640"/>
                <a:gridCol w="609480"/>
                <a:gridCol w="53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∧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⇒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234-EF65-41BC-8E7B-AC9A266AA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икатно смятане от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 ре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f917e"/>
                </a:solidFill>
                <a:latin typeface="Arial"/>
              </a:rPr>
              <a:t>Предикатно смятане от </a:t>
            </a:r>
            <a:r>
              <a:rPr b="1" lang="en-US" sz="2400" spc="-1" strike="noStrike">
                <a:solidFill>
                  <a:srgbClr val="4f917e"/>
                </a:solidFill>
                <a:latin typeface="Arial"/>
              </a:rPr>
              <a:t>I</a:t>
            </a:r>
            <a:r>
              <a:rPr b="1" lang="bg-BG" sz="2400" spc="-1" strike="noStrike">
                <a:solidFill>
                  <a:srgbClr val="4f917e"/>
                </a:solidFill>
                <a:latin typeface="Arial"/>
              </a:rPr>
              <a:t> ред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съжденията имат вътрешна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станти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конкретни обе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iva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ivan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роизволни обе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и (функционални символ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зависимост между обек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+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xR</a:t>
            </a:r>
            <a:r>
              <a:rPr b="0" lang="en-US" sz="2100" spc="-1" strike="noStrike">
                <a:solidFill>
                  <a:srgbClr val="a0c6ba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f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a0c6ba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 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за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f(x)=x*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приятел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_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на (Х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Предикати (предикатни символи)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за свойства и отношения между обекти 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p : D1 x D2 x … x Dn </a:t>
            </a:r>
            <a:r>
              <a:rPr b="0" lang="en-US" sz="2000" spc="-1" strike="noStrike">
                <a:solidFill>
                  <a:srgbClr val="5a84d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 {T, F}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пр.</a:t>
            </a: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иван (мъж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е (иван, мъж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мъж (ив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 съюзи –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 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ван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всеобщност 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съществуване 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арактеризират променли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. Всеки човек е смъртен -&gt;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 (човек(Х)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мъртен(Х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мволи за пунктоация – (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305-D23F-4024-9A6B-284152AC35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tu1</cp:lastModifiedBy>
  <dcterms:modified xsi:type="dcterms:W3CDTF">2008-10-10T07:51:30Z</dcterms:modified>
  <cp:revision>134</cp:revision>
  <dc:subject/>
  <dc:title>Логическо програмиране</dc:title>
</cp:coreProperties>
</file>