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152-D83A-41E2-836D-7907B98D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D15-F94B-4352-830A-756D59B2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206-04B1-40CD-A4CF-A835D910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211-166D-4B37-8FC6-70393A55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6C42-1A3D-4C41-84A3-8664847E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139D-1633-4408-9CB5-EE8CCC31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D779-6AA2-42D4-81E8-A2ABADF9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51E4-1B31-4884-8746-FD97CF87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C324-67FB-44C5-85BB-9DF0A8DF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FAB1-8FD3-43A9-9CA6-8B4E82A5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546B-F957-4725-91AA-F668A242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6D6-B0FF-43CD-9177-491684CE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56FC-2748-444B-959A-B176FCB8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2426-C71C-4311-AC32-B641C9FB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59BD-75F2-4215-ACC2-A7B50544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E0A8-5A72-4782-BFF8-11F1C663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E28A-43C8-49C3-9FC4-BC62EAF0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899-C22D-4F52-BDE3-594ACD53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EE5-0A82-4BA6-9CED-BD7422B4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3A7-9AE7-4082-941E-784D9FA6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DF8-769C-4CF7-8216-2C7D411C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F12-F9E7-4E64-8D19-7DC45778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636-C5C4-4563-998F-390D5416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273-3A4C-40A0-82CC-01E66DE9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3844-114D-4F89-932B-4308A456E7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BFD2-7FF6-4FF8-89D4-C40F32D891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ТЕСТ 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лаузите не съдърж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a. дизю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b. отриц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c. кон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е може да е връщана стойност на предик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. константата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числото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. обекта ив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ое не е тер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. литер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функц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. променлив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ой е символа за запис на дизюнкция в прологообразния запис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.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.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3BF5-DE13-469F-8264-9057229301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Метод на резолюцият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Задача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а се докаже, че множеството е неудоволетвор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. родител(Х, У) :- баща(Х, 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2. роднина(Х1, У1) :- родител(Х1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одител(У1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баща(иван, петър) :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4. баща(мария, петър) :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5. :- роднина(мария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5 -&gt; 6. :- родител(мария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одител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, 6 -&gt; 7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- баща(мария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одител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4, 7 -&gt; 8. :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одител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петъ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, 8 -&gt; 9. :- баща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петър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, 9 -&gt; :-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азна клауза) -&gt; противоречие -&gt; множеството е неудоволетвори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289-93CF-46C0-B728-D169436D71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Метод на резолюцият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Задача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Ако е дадено множеството от клаузи:</a:t>
            </a: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. животно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X));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лъв(Х) :- животно(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2. лъв(Х) :- животно(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раху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е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X), 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раху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е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:- животн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4. животн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а се докаже, че том е лъ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2, 3 -&gt; 5; 1, 5 -&gt; 6; 4, 6 -&gt; 7; 4, 7 -&gt; 8; 0, 8 -&gt; 9; 0, 9 -&gt;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6D84-538F-49E4-B534-77C1FAC6D8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олог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еди 22 века – Аристотел – традиционна логика, съждение (вярно, грешн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9 век – де Морг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снови на машинно доказване на теорем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рбран 1930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ърви компютърни реализации на идеите на Ербран – Гилмор, Дейвис и Патнъм началото на 60-те год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Логиката като език за програмиране – Ковалски и Колмерау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ъздатели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log (PROgramming in LOGic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ain Colmerauer, Philippe Roussel (Greupe d’Intelligence Artificielle – University of Marseil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768-A983-417D-BBA3-5116F8ABB7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Особености на Пролог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собе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ескриптивен характер: “как” -&gt; “какво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грама = правила + фак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екларативен ЕП – задаване на отношения между обекти от ПО и условия за тяхната валид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днакво представяне на данни и прог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едуктивен изв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пълнение = доказателство (извод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едетерминираност – генериране на алтернативни решения върху едно описание на ПО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войнствена роля на аргумент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войнствена интерпретация – декларативно и процедур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266-4C16-4773-B43D-98B5CBFFA5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Особености на Пролог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едим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По-естествени изразни средства – използване на термините на П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Вградени средства за автоматичен логически изв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Лесно изграждане на релационни БД и удобно представяне на качествени характеристики и отнош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Лесно формулиране на сложни въпроси от логически свързани подвъпрос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0AF-E653-44E9-BDC7-05B1213FB4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Ограничения на клаузите в Пролог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Синтактични огранич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олзва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клаузи на Хорн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- клаузи, които съдържат най-много един положителен литера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p :- q1, q2, …, q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олзва множество от клаузи, в което само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една клауза може да не съдържа положителен литера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:- q1, q2, …, q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Семантични огранич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олзва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входна линейна резолюция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– започва се с целевата клауза, резолвира се с някоя от клаузите от БЗ, получената резолвента се резолвира пак с клаузите от БЗ и т.н. (не могат да се резолвират две от клаузите от БЗ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олзва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селективна линейна резолюция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– редът на унификация на литералите от целта е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от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ляво на дясно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олзва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търсене в дълбочина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за селекция на клаузите – избира се винаги първата клауза от БЗ като към следващата се преминава само ако направения избор не води до успех т.е. търсенето е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от горе на долу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EB64-1768-4562-A41E-8C198F7093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Задача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окажете неудоволетворимостта на множество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v~q, zv~pv~k, q, k, ~z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Ако е дадено множеството от клауз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1. студент (Х); студентка (Х) 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2. мъж (Х) :- студент (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ценка(иван, 6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4. :- студентка (ив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5. добър_студент (Х) :- студент (Х), оценка (Х,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а се докаже, че иван е добър студ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76C-975A-4BB5-B845-16098F2952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ТЕСТ 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ое правило не сеизползва за привеждане на формула в клаузен вид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премахване на еквивалентности и имплик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. ограничаване на отрицание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. премахване на дизюнкци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Кое не е констан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бан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. ив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. Ист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Кой закон не се използва за привеждане на дадена формула в клаузна фор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на де Морг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. асоци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. комут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D89-E1E0-4313-BC70-50200757D0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ОТГОВОРИ НА ТЕСТ 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лаузите не съдърж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a. дизю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b. отриц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5050"/>
                </a:solidFill>
                <a:latin typeface="Arial"/>
              </a:rPr>
              <a:t>c. кон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е може да е връщана стойност на предик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a. константата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числото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. обекта ив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ое не е тер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a. литер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функц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. променлив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ой е символа за запис на дизюнкция в прологообразния запис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.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c.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48C-94E1-43C6-8D61-5A7BE5ADF9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ОТГОВОРИ НА ТЕСТ 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ое правило не сеизползва за привеждане на формула в клаузен вид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премахване на еквивалентности и имплик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. ограничаване на отрицание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Arial"/>
              </a:rPr>
              <a:t>c. премахване на дизюнкци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Кое не е констан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бан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. ив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Arial"/>
              </a:rPr>
              <a:t>c. Ист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Кой закон не се използва за привеждане на дадена формула в клаузна фор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на де Морг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Arial"/>
              </a:rPr>
              <a:t>b. асоци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. комут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115-D560-480A-A16E-67122E3F5A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МЕТОД НА РЕЗОЛЮЦИЯТ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ъщност на метода на резолюци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зползване на метода на резолюци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илагане на метода на резолюцията за клаузи без променли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илагане на метода на резолюцията за клаузи с променли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Ун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собености на ЕП Пр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граничения на клаузите в Пр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296-4B2C-4BA5-8205-3C58E83540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Метод на резолюцията – </a:t>
            </a:r>
            <a:br>
              <a:rPr sz="3800"/>
            </a:b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същност и използван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f917e"/>
                </a:solidFill>
                <a:latin typeface="Arial"/>
              </a:rPr>
              <a:t>Цел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да се установи дали дадена формула е неудоволетворима (т.е. винаг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f917e"/>
                </a:solidFill>
                <a:latin typeface="Arial"/>
              </a:rPr>
              <a:t>Използване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 проверка за общовалидност на формула (т.е. винаг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лага се метода за отрицанието на формулата, ако отрицанието на формулата е неудоволетворимо, тогава формулата е общовалид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 проверка дали формула е логическо следствие на множество от форму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f917e"/>
                </a:solidFill>
                <a:latin typeface="Arial"/>
              </a:rPr>
              <a:t>Теорема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 логическо следствие от множеството форму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A1, …, An}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1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е общовалид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f917e"/>
                </a:solidFill>
                <a:latin typeface="Arial"/>
              </a:rPr>
              <a:t>Теорема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 логическо следствие от множеството форму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A1, …, An}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1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е неудоволетвор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93F-B45D-495C-8A38-00E5F68C0E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Прилагане на метода на резолюцията за клаузи без променливи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Базово правило на резолюция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за клаузи без променлив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авим умозаключения между клаузите в Б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A2V…V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K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K2V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A1; A2; …;L :- K1, K2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B2V…V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2V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B1; B2; … :- L, M1, M2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лучаваме резолвен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A2V…V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B2V…V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K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K2V…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2V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A1; A2; …; B1; B2; … :- K1, K2, … , M1, M2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резолвентата е празната клауза :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Ако в процеса на умозаключения се достигне до празната клауза, то множеството от клаузи е неудоволетворим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FCA-7BAB-42A8-81E5-BB4C55BD5C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Прилагане на метода на резолюцията за клаузи с променливи. Унификаци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за клаузи с променлив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авим умозаключения между клаузите в БЗ като унифицираме променливите чрез правила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ве атомарни формули са унифицируеми ако има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едно и също име за предикат 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еднаква размерност 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аргументите им могат да бъдат унифицира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ва терма са унифицируеми ак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единият от тях е променлива ил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а идентични ил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мат едно и също име за функция, аргументите на която могат да бъдат унифицира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8B4-D1AE-4C75-8A1D-1DAC2390B3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Примери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за унификац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етъ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(a, b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(a, 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(0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X, a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Y, Z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4f917e"/>
                </a:solidFill>
                <a:latin typeface="Arial"/>
              </a:rPr>
              <a:t>съвместени променли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b, Y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X, q(a, b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Примери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за липса на унификац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етъ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в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a, Y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b, 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X, Y, Z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 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7D8-B453-4D86-9CCD-D6092C9164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2:38:45Z</dcterms:created>
  <dc:creator>Elena Somova</dc:creator>
  <dc:description/>
  <dc:language>en-US</dc:language>
  <cp:lastModifiedBy>stu1</cp:lastModifiedBy>
  <dcterms:modified xsi:type="dcterms:W3CDTF">2008-10-10T07:49:58Z</dcterms:modified>
  <cp:revision>132</cp:revision>
  <dc:subject/>
  <dc:title>Логическо програмиране</dc:title>
</cp:coreProperties>
</file>