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054-E42F-4914-9C52-7EFDEB8F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EA29-0E88-4114-B06E-6B65DFBA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A7D5-E109-4AC5-BE5A-B72483D2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408-0F48-406D-A39E-94BE74F9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9AA5-52E6-4412-98FD-3F5B5764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1FBE-F54C-4777-9FE7-60911397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7339-598A-4C2E-9008-65CFE86C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BB40-9C39-4495-9527-90DF0321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FD31-5569-422E-9CA7-2DA6E1CE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B260-DE9B-4E95-B953-2F2CE0B7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D70C-2B0C-4BBB-9BFE-CC31827D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51F-8D97-45EC-85FC-78FF8F40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58A3-976B-44F1-A809-35A9C7B1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E0A0-5C1D-4F87-9789-425E04B1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7BFC-BEDC-42B6-9C3E-341D4BBA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8357-57A3-4698-8F6C-9FAF4C34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05E0-477B-4B20-BD33-7D0194AF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809-4A5E-4298-9E68-40C3E182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07B-6696-4036-B8BA-E881E5A1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BE1-870C-4399-9F60-B7C4CF5D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589B-36B3-41AF-909D-A2DC5872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E333-2EF8-450E-8E82-B4858658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5F0-5A77-4873-B7BA-F36F7B90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F753-242A-4CA7-958D-DC2B50B0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cb0a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760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760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4028-C341-497F-A1A4-BD80B74EB00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/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797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797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212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EECA-C73C-4928-A845-B93DA393D68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ТЕСТ 4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е не е правилен ред на Пролог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обича (Х, А) :- харесва (Х, шоколад), харесва (А, шокола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обича (Х, А) :- харесва (Х, шоколад); харесва (А, шокола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обича (Х, шоколад); обича (А, шоколад) :- харесва (Х, 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На кой запис са еквивалентни тези клауз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q(X) :- t(X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q(X) :- s(X), n(X), m(X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q(X) :- k(X), h(X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Ако е изпълнено q(X) то следва t(X) или (s(X) и n(X) и m(X)) или (k(X) и h(X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на нито един от запис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Ако е изпълнено t(X) или (s(X) и n(X) и m(X)) или (k(X) и h(X)) то следва q(X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d. Ако е изпълнено t(X) и (s(X) и n(X) и m(X)) и (k(X) и h(X)) то следва q(X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га не се задейства механизма на възврат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при унификация на цел с прави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при пропадане на дадена ц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при търсене на алтернативно ре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5AF-1429-42CC-9ECC-7D36E06369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ffffcc"/>
                </a:solidFill>
                <a:latin typeface="Times New Roman"/>
              </a:rPr>
              <a:t>Основни предикати. Отсичане</a:t>
            </a:r>
            <a:r>
              <a:rPr b="0" lang="en-US" sz="3800" spc="-1" strike="noStrike">
                <a:solidFill>
                  <a:srgbClr val="ffffcc"/>
                </a:solidFill>
                <a:latin typeface="Times New Roman"/>
              </a:rPr>
              <a:t> (!)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Същност: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Предиката винаги успява (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ue)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и забранява връщането назад за преудоволетворяване (спира механизма на възвр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Приложения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За указване, че е намерено необходимото правило за удоволетворяване на цел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?- member (a, [a, b, a, c, a, g, a]).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ще се преудоволетвори 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member (X, [X|_])</a:t>
            </a:r>
            <a:r>
              <a:rPr b="0" lang="bg-BG" sz="2200" spc="-1" strike="noStrike">
                <a:solidFill>
                  <a:srgbClr val="8cb0a2"/>
                </a:solidFill>
                <a:latin typeface="Arial"/>
              </a:rPr>
              <a:t> :- !</a:t>
            </a: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ъ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За прекратяване търсенето на алтернативни реш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p :- p1, p2, p3, !, p4, p5, p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За указване верността на само една от клаузит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r :- !, a, b,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r :- !, 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r :- 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За явно предизвикване на пропадане на дадена це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ne (X) :- X, !, fai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ne (X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6990-98FD-4F6D-AA86-3B8C6E375B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Списъц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476077"/>
                </a:solidFill>
                <a:latin typeface="Arial"/>
              </a:rPr>
              <a:t>Определение: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Наредена последователност от произволен брой елементи с разделител запетая и заградени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476077"/>
                </a:solidFill>
                <a:latin typeface="Arial"/>
              </a:rPr>
              <a:t>Примери</a:t>
            </a:r>
            <a:r>
              <a:rPr b="1" lang="en-US" sz="1800" spc="-1" strike="noStrike">
                <a:solidFill>
                  <a:srgbClr val="476077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b0a2"/>
                </a:solidFill>
                <a:latin typeface="Arial"/>
              </a:rPr>
              <a:t>[1, 2, 3]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cb0a2"/>
                </a:solidFill>
                <a:latin typeface="Arial"/>
              </a:rPr>
              <a:t>[]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cb0a2"/>
                </a:solidFill>
                <a:latin typeface="Arial"/>
              </a:rPr>
              <a:t>[1, [2, 3]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Части на списъ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Глава (е елеме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Опашка (е списъ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Означения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, [H|T], [X, Y|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476077"/>
                </a:solidFill>
                <a:latin typeface="Arial"/>
              </a:rPr>
              <a:t>Примери</a:t>
            </a:r>
            <a:r>
              <a:rPr b="1" lang="en-US" sz="1800" spc="-1" strike="noStrike">
                <a:solidFill>
                  <a:srgbClr val="476077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Списък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Глава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Опа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1, 2, 3]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, 3]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[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[1, 2, 3]]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1, 2, 3]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]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[1, 2], 3]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1, 2]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[3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1, [2, 3]]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, 3]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]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няма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ня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476077"/>
                </a:solidFill>
                <a:latin typeface="Arial"/>
              </a:rPr>
              <a:t>Вътрешно представяне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: чрез служебен функтор “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1, 2, 3]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8cb0a2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  <a:ea typeface="Arial"/>
              </a:rPr>
              <a:t>.(1, .(2, .(3, </a:t>
            </a:r>
            <a:r>
              <a:rPr b="0" lang="en-US" sz="1800" spc="-1" strike="noStrike">
                <a:solidFill>
                  <a:srgbClr val="8cb0a2"/>
                </a:solidFill>
                <a:latin typeface="Arial"/>
                <a:ea typeface="Arial"/>
              </a:rPr>
              <a:t>[])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F57-F1BB-4B7B-89E7-5C68E41AF2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Списъц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ffffff"/>
                </a:solidFill>
                <a:latin typeface="Arial"/>
              </a:rPr>
              <a:t>Предимства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Елементите на списъка могат да бъдат атоми, структури или др. списъ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за обработката не е необходимо предварително да се знаят типът и броят на елемент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Чрез списъци могат да се обработват по еднообразен начин различна по обем и съдържание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Елементите са подредени, но предварително могат да бъдат с неизвестен бр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ffffff"/>
                </a:solidFill>
                <a:latin typeface="Arial"/>
                <a:ea typeface="Arial"/>
              </a:rPr>
              <a:t>Недостатъци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ffffff"/>
                </a:solidFill>
                <a:latin typeface="Arial"/>
                <a:ea typeface="Arial"/>
              </a:rPr>
              <a:t>Не е възможен пряк достъп до произволен елемент от списъка, което води до по-бавна обработк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F33-29B6-4F1A-824E-E44C71DDCE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Унификация на списъц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476077"/>
                </a:solidFill>
                <a:latin typeface="Arial"/>
              </a:rPr>
              <a:t>Свързване на променливи при унификация на два списъка</a:t>
            </a:r>
            <a:r>
              <a:rPr b="1" lang="en-US" sz="2400" spc="-1" strike="noStrike">
                <a:solidFill>
                  <a:srgbClr val="476077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Списък1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Списък2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Свързване на променли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1, 2, 3]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X, Y, Z]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=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Y=2, Z=3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X|Y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1, 2, 3]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=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Y=[2, 3]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1, [2, 3]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X, Y|Z]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=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Y=[2, 3], Z=[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X, Y| Z, V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1, 2, 3, 4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неверен синтакс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1, 2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2, X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проп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X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1, 2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проп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 Y]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, 3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X=2, Y=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2, Y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X, Z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X=2, Y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 се съвместяв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X|Y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проп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BC17-19AE-4156-A4CC-C0C4114A19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Основни задачи със списъц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Обединение на две множ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Сечение на две множ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Разлика на две множ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Подмножество на дадено множ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Празно множ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Непразно множ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Равенство на множ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Различност на множ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Принадлежност на елемент към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Подсписък на даден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Сортиране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Намиране на минимум (максимум)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Обединение на два сортирани списъ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Намиране на к-тия елемент на списъ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Намиране на дължината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Изтриване на елемент от списък (всяко срещане, първо срещан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Добавяне на елемент преди (след) даден елемент в списък (всяко срещане, първо срещан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Промяна елементите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Намиране на сума (произведение) на елементите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Обръщане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Пермутация на елементите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5A8E-7DD4-4065-8E90-7AF0AC8D0F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ffffcc"/>
                </a:solidFill>
                <a:latin typeface="Times New Roman"/>
              </a:rPr>
              <a:t>Множествени операции чрез списъци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надлежност на елемент към списък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member (X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member (X, [X|_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member (X, [_|T]) :- member (X, 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 member (1, [1, 2, 3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 member (X, [1, 2, 3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бединение на две множества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union (L1, L2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union ([], L2, L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union ([X|T], L2, [X|T1]):- union (T, L2, T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union ([1, 2], [3, 4], [1, 2, 3, 4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union ([1, 2], [3, 4], 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union ([1, 2], L, [1, 2, 3, 4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union (L, [3, 4], [1, 2, 3, 4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union (L1, L2, [1, 2, 3, 4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2F0-DFB0-4B6C-B459-C23BE06852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ffffcc"/>
                </a:solidFill>
                <a:latin typeface="Times New Roman"/>
              </a:rPr>
              <a:t>Поелементни операции на списък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зтриване на всяко срещане на елемент А в списъ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1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 (A, L1, L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 (A, [A|T], L) :- !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(A, T, L)</a:t>
            </a:r>
            <a:fld id="{3667F083-E6C7-4679-A905-0EC2604E52D9}" type="slidenum">
              <a:rPr b="0" lang="en-US" sz="2400" spc="-1" strike="noStrike">
                <a:solidFill>
                  <a:srgbClr val="8cb0a2"/>
                </a:solidFill>
                <a:latin typeface="Arial"/>
              </a:rPr>
              <a:t>&lt;number&gt;</a:t>
            </a:fld>
            <a:fld id="{21336027-5A5A-4952-9EC8-419AF43B06AD}" type="slidenum">
              <a:rPr b="0" lang="en-US" sz="2400" spc="-1" strike="noStrike">
                <a:solidFill>
                  <a:srgbClr val="8cb0a2"/>
                </a:solidFill>
                <a:latin typeface="Arial"/>
              </a:rPr>
              <a:t>&lt;number&gt;</a:t>
            </a:fld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 (A, [B|T], [B|T1]) :- del(A, T, T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зтриване на първо срещане на елемент А в списъ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1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 (A, L1, L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 (A, [A|T], T) :- !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 (A, [B|T], [B|T1]) :- del(A, T, T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C774-959B-4EE3-AEE4-ADC3200500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Помощни предикат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дсписък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ublist (L, L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ublist (L, L1) :- union (X, L, Z), union (Z, Y, L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бръщане на елементите на списък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reverse (L, 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reverse([], [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reverse([X|T], Y) :- reverse (T, Z), union (Z, [X], 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сле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 елемент на списък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last_el (Z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last_el (Z, L) :- union (_, [Z], 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ермутация на елементите на списък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perm (Z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perm ([], []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perm (L, [X|T]) :- union (A, [X|B], L), union (A, B, C), perm (C, T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CA58-F2F4-4DDF-A9AE-98DDF74D3C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ffffcc"/>
                </a:solidFill>
                <a:latin typeface="Times New Roman"/>
              </a:rPr>
              <a:t>Намиране на сума (произведение)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Намиране на сума (произведение) на елементите на списък </a:t>
            </a: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 (L, 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 лява рекур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 ([], 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 ([X|T], S) :- sum (T, S1), S=S1+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 дясна рекур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 (L, S) :- sum1(L, S, 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1 ([], R, 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1 ([X|T], S, R) :- R1=R+X, sum1 (T, S, R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ED3-F30B-47A6-BEAF-199629E8D3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Сортиране на списък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Метод на мехурчето </a:t>
            </a: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 (L, 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bubsort (L, L1) :- shift (L, T), !, bubsort (T, L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bubsort (L, 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hift ([X, Y|T], [Y|T1]) :- X&gt;Y, !, shift ([X|T], T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hift ([X|T], [X|T1]) :- shift (T, T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hift ([], []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ort (L, R) :- union (X, [A, B|Y], L), A&gt;B, union (X, [B, A|Y], L1), sort (L1, 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ort (L, 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14E6-7ABB-4DEB-BD8C-93C675EB69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ТЕСТ 4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еханизма на възврат предизвикв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връщане към подцелта, стояща от дяс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връщане към предходна клауза в Б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връщане към клаузата в БЗ, маркирана при последното удоволетворява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d. връщане към подцелта, стояща от ляв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За какво се използват функторите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за записване на съставни це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за записване на съставни обек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за представяне на дизюнкции в правила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и не са клаузи в Пролог?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правила и предика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факти, правила и це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факти и въпрос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d. факти и прави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Това какво 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обича (иван, бира) :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правил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це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?-обича (иван, бир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d. обича (иван, бир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FAD8-1685-4B50-BF1F-084C2BDC64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Сортиране на списък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ортиране чрез вмъква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ort ([], [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ort ([X|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], L) :-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ort (T, T1), insert (X, T1, 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insert (X, [H|T], [H|T1]) :- X&gt;H, !, insert (X, T, T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insert (X, L, [X|L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ортиране чрез пряка селекция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начален м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ort ([], []).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М – мин елемент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X|L], S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ка бе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ort ([X|L], [M|L1]) :- min (L, X, M, S), sort (S, L1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min ([H|T], X, M, [X|T1]) :- X&gt;H, !, min (T, H, M, T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min ([H|T], X, M, [H|T1]) :- min (T, X, M, T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min ([], M, M, [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A64-CABE-4693-B787-6CFF4A68D0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ЗАДАЧ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апишете предикат, определящ равенство на две множ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апишете предикат, намиращ дължината на списъ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апишете предикат, добавящ елемент А преди елемент В в списъ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апишете предикат, намиращ числата на Фибонач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016-C6F5-4331-9C5E-6195DE2C64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Отговори на Тест 4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е не е правилен ред на Пролог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обича (Х, А) :- харесва (Х, шоколад), харесва (А, шокола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обича (Х, А) :- харесва (Х, шоколад); харесва (А, шокола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5050"/>
                </a:solidFill>
                <a:latin typeface="Arial"/>
              </a:rPr>
              <a:t>c. обича (Х, шоколад); обича (А, шоколад) :- харесва (Х, 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На кой запис са еквивалентни тези клауз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q(X) :- t(X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q(X) :- s(X), n(X), m(X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q(X) :- k(X), h(X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Ако е изпълнено q(X) то следва t(X) или (s(X) и n(X) и m(X)) или (k(X) и h(X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на нито един от запис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5050"/>
                </a:solidFill>
                <a:latin typeface="Arial"/>
              </a:rPr>
              <a:t>c. Ако е изпълнено t(X) или (s(X) и n(X) и m(X)) или (k(X) и h(X)) то следва q(X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d. Ако е изпълнено t(X) и (s(X) и n(X) и m(X)) и (k(X) и h(X)) то следва q(X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га не се задейства механизма на възврат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5050"/>
                </a:solidFill>
                <a:latin typeface="Arial"/>
              </a:rPr>
              <a:t>a. при унификация на цел с прави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при пропадане на дадена ц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при търсене на алтернативно ре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E326-9D2A-41C0-A89D-A02C04F099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Отговори на Тест 4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еханизма на възврат предизвикв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връщане към подцелта, стояща от дяс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връщане към предходна клауза в Б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връщане към клаузата в БЗ, маркирана при последното удоволетворява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5050"/>
                </a:solidFill>
                <a:latin typeface="Arial"/>
              </a:rPr>
              <a:t>d. връщане към подцелта, стояща от ляв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За какво се използват функторите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за записване на съставни це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5050"/>
                </a:solidFill>
                <a:latin typeface="Arial"/>
              </a:rPr>
              <a:t>b. за записване на съставни обек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за представяне на дизюнкции в правила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и не са клаузи в Пролог?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5050"/>
                </a:solidFill>
                <a:latin typeface="Arial"/>
              </a:rPr>
              <a:t>a. правила и предика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факти, правила и це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факти и въпрос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d. факти и прави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Това какво 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обича (иван, бира) :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правил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це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?-обича (иван, бир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5050"/>
                </a:solidFill>
                <a:latin typeface="Arial"/>
              </a:rPr>
              <a:t>d. обича (иван, бир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C79-902F-43F8-8CAD-682FAF0D45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Рекурсия. Списъц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Рекур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Видове рекур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Основни вградени предика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писъц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Унификация на списъ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Множествени операции чрез списъ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оелементни операции на списъ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Намиране на су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ортиране на списъ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EDD-667D-43DA-A007-6224930A97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Рекурсия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Определение</a:t>
            </a:r>
            <a:r>
              <a:rPr b="1" lang="en-US" sz="2200" spc="-1" strike="noStrike">
                <a:solidFill>
                  <a:srgbClr val="476077"/>
                </a:solidFill>
                <a:latin typeface="Arial"/>
              </a:rPr>
              <a:t>:</a:t>
            </a: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равила, които изразяват </a:t>
            </a: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отношения чрез същите отношения се наричат</a:t>
            </a: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 рекурсивни правил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Реализация: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гранично условие за край на рекурсията - нерекурсивно правило, което задава тривиалния случа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рекурсивн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правило, декомпозиращо определяното отношение на тривиален случай и същото отношение, но в по-тесен смисъл. Неколкократното му прилагане свежда задачата към тривиален случай, описан в граничното услов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A603-634D-4A03-A846-617F8CB470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Видове рекурсия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Видове: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ля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q(…)</a:t>
            </a:r>
            <a:r>
              <a:rPr b="0" lang="bg-BG" sz="2200" spc="-1" strike="noStrike">
                <a:solidFill>
                  <a:srgbClr val="666699"/>
                </a:solidFill>
                <a:latin typeface="Arial"/>
              </a:rPr>
              <a:t>:- 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q(…), p</a:t>
            </a:r>
            <a:r>
              <a:rPr b="0" lang="bg-BG" sz="2200" spc="-1" strike="noStrike" baseline="-25000">
                <a:solidFill>
                  <a:srgbClr val="666699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(…), p</a:t>
            </a:r>
            <a:r>
              <a:rPr b="0" lang="en-US" sz="2200" spc="-1" strike="noStrike" baseline="-25000">
                <a:solidFill>
                  <a:srgbClr val="6666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(…), …, p</a:t>
            </a:r>
            <a:r>
              <a:rPr b="0" lang="en-US" sz="2200" spc="-1" strike="noStrike" baseline="-25000">
                <a:solidFill>
                  <a:srgbClr val="666699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(…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666699"/>
                </a:solidFill>
                <a:latin typeface="Arial"/>
              </a:rPr>
              <a:t>Недостатък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: правилото може да се зацикли, ако преди рекурсивния ред не е записан реда за изход от рекурсия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дяс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q(…)</a:t>
            </a:r>
            <a:r>
              <a:rPr b="0" lang="bg-BG" sz="2200" spc="-1" strike="noStrike">
                <a:solidFill>
                  <a:srgbClr val="666699"/>
                </a:solidFill>
                <a:latin typeface="Arial"/>
              </a:rPr>
              <a:t>:- 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p</a:t>
            </a:r>
            <a:r>
              <a:rPr b="0" lang="bg-BG" sz="2200" spc="-1" strike="noStrike" baseline="-25000">
                <a:solidFill>
                  <a:srgbClr val="666699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(…), p</a:t>
            </a:r>
            <a:r>
              <a:rPr b="0" lang="en-US" sz="2200" spc="-1" strike="noStrike" baseline="-25000">
                <a:solidFill>
                  <a:srgbClr val="6666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(…), …, p</a:t>
            </a:r>
            <a:r>
              <a:rPr b="0" lang="en-US" sz="2200" spc="-1" strike="noStrike" baseline="-25000">
                <a:solidFill>
                  <a:srgbClr val="666699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(…), q(…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41D-9D0A-4501-B0FA-A7C30C1750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Примери за рекурсия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Пример:</a:t>
            </a:r>
            <a:r>
              <a:rPr b="1" lang="en-US" sz="22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Да се опише отношението “потомък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отомък (Х, У) :- син (Х, 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отомък (Х, У) :- дъщеря (Х, 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отомък (Х, У) :- син (Х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отомък (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, 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отомък (Х, У) :- дъщеря (Х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отомък (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, 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Пример:</a:t>
            </a:r>
            <a:r>
              <a:rPr b="1" lang="en-US" sz="22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миране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ектир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!=1, n=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!=n*(n-1)!, n&gt;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грамир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fact (1, 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fact (N, R):- N</a:t>
            </a:r>
            <a:r>
              <a:rPr b="0" lang="bg-BG" sz="2000" spc="-1" strike="noStrike">
                <a:solidFill>
                  <a:srgbClr val="8cb0a2"/>
                </a:solidFill>
                <a:latin typeface="Arial"/>
              </a:rPr>
              <a:t>1=</a:t>
            </a: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N</a:t>
            </a:r>
            <a:r>
              <a:rPr b="0" lang="bg-BG" sz="2000" spc="-1" strike="noStrike">
                <a:solidFill>
                  <a:srgbClr val="8cb0a2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, fact (N1, R1), R=N*R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6F69-3576-47A5-A439-694DD024B4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Основни предикати. </a:t>
            </a: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Fail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476077"/>
                </a:solidFill>
                <a:latin typeface="Arial"/>
              </a:rPr>
              <a:t>Същност: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Предиката винаги пропада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),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 което предизвиква връщане назад (механизъм на възврат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476077"/>
                </a:solidFill>
                <a:latin typeface="Arial"/>
              </a:rPr>
              <a:t>Приложение: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За намиране на всички възможни 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476077"/>
                </a:solidFill>
                <a:latin typeface="Arial"/>
              </a:rPr>
              <a:t>Пример: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father (ivan, mari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father (peter, mile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all_fathers (X, Y):- father (X, Y), write (X), write (Y), fa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 all_fathers (X, 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X=ivan, Y=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X=peter, Y=mi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5C2-99CC-4A4A-A85D-1762CA8780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2:38:45Z</dcterms:created>
  <dc:creator>Elena Somova</dc:creator>
  <dc:description/>
  <dc:language>en-US</dc:language>
  <cp:lastModifiedBy>Svetoslav</cp:lastModifiedBy>
  <dcterms:modified xsi:type="dcterms:W3CDTF">2008-10-24T06:59:59Z</dcterms:modified>
  <cp:revision>133</cp:revision>
  <dc:subject/>
  <dc:title>Логическо програмиране</dc:title>
</cp:coreProperties>
</file>