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F5C0-B650-4654-AD16-78A40FDC6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74FF-8D70-4676-9368-C8D272AF2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A4A7-1CC9-45BA-ACEC-F18E9C0A6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5077-8CF6-407A-9F66-94EFBA618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D2956-AA7A-42A8-9011-17CB5D4F0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D505C-2421-41B9-AD02-3D32BD2C9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72B83-5179-4BC3-8043-EA50A759E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AC6F8-956D-4898-B1F7-80A9F3619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C14B0-3EE0-4F0A-8FF9-FA0D4D984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63671-0350-4578-A693-B17697104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E8ECA-61EE-431F-A64B-3469E1508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133F-94C6-4AD5-8773-B20B83DB3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D4713-2290-4157-AAF8-D0813853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D7E71-2B4D-4016-9597-5133E3914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11929-E1C9-4765-966C-59A2EAA23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F5032-6A62-410C-8A88-B22A813DE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5D421-8B47-4164-B2B6-38AEA8639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8DB3-159F-4226-A163-7C44C335D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F38C-9C54-44C5-836E-F8BF326DD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9EDA-759C-4EFB-BD98-096E9F59E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5326-92E8-4FAA-B509-046FA1F08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1155-18E7-4E93-B116-52CC84D8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3BAC-3236-4C2C-A8CB-105FE7015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B268-451A-4206-B066-5D788FBEA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4760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8cb0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7978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7607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cb0a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760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760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9ED0D-E2DF-4C27-BFE0-89E50BB5390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bg-BG" sz="1000" spc="-1" strike="noStrike">
                <a:solidFill>
                  <a:srgbClr val="ffffff"/>
                </a:solidFill>
                <a:latin typeface="Arial"/>
              </a:rPr>
              <a:t>/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7978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4760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7978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2120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7978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8cb0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7978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C47A7-B664-459E-8DC9-AA963F2E00E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ffffcc"/>
                </a:solidFill>
                <a:latin typeface="Times New Roman"/>
              </a:rPr>
              <a:t>ТЕСТ 5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Как се реализират повторенията в Пролог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a. чрез рекурсия или итера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b. чрез итера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c. чрез рекурс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Коя рекурсия е по-опасна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a. дяс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b. и двет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c. ля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Кой от вградените предикати спира механизма на възврат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a. fa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b. отсичан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c. и два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Кое не е начин за намиране на всички възможни решения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a. използване на fa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b. натискане на символа 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c. използване на 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7D1C-0FF8-4BF5-886A-4940F31D66C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ffffcc"/>
                </a:solidFill>
                <a:latin typeface="Times New Roman"/>
              </a:rPr>
              <a:t>Представяне на двоично дърво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47607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Изключване на елемен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6077"/>
                </a:solidFill>
                <a:latin typeface="Arial"/>
              </a:rPr>
              <a:t>delete (bintree (nil, X, R), X, R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6077"/>
                </a:solidFill>
                <a:latin typeface="Arial"/>
              </a:rPr>
              <a:t>delete (bintree (L, X, nil), X, L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6077"/>
                </a:solidFill>
                <a:latin typeface="Arial"/>
              </a:rPr>
              <a:t>delete (bintree (L, X, R), X, bintree (L, Y, R1)) :- delmin (R, Y, R1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6077"/>
                </a:solidFill>
                <a:latin typeface="Arial"/>
              </a:rPr>
              <a:t>delete (bintree (L, K, R), X, bintree (L1, K, R)) :- K&gt;X, delete (L, X, L1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6077"/>
                </a:solidFill>
                <a:latin typeface="Arial"/>
              </a:rPr>
              <a:t>delete (bintree (L, K, R), X, bintree (L, K, R1)) :- K&lt;X, delete (R, X, R1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6077"/>
                </a:solidFill>
                <a:latin typeface="Arial"/>
              </a:rPr>
              <a:t>delmin (bintree (nil, Y, R), Y, R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6077"/>
                </a:solidFill>
                <a:latin typeface="Arial"/>
              </a:rPr>
              <a:t>delmin (bintree (L, K, R), Y, bintree (L1, K, R)) :- delmin (L, Y, L1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Ако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или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е празно, то за дясно поддърво се избира непразното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или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Ако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са непразни, то най-малкия елемент на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се премества от текущото си положение и заема мястото на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8E8B-EC54-49A9-88C1-3EBC90023E7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ffffcc"/>
                </a:solidFill>
                <a:latin typeface="Times New Roman"/>
              </a:rPr>
              <a:t>Представяне на граф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7607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редставян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6077"/>
                </a:solidFill>
                <a:latin typeface="Arial"/>
              </a:rPr>
              <a:t>link (a, b). </a:t>
            </a:r>
            <a:r>
              <a:rPr b="0" lang="en-US" sz="2000" spc="-1" strike="noStrike">
                <a:solidFill>
                  <a:srgbClr val="476077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76077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76077"/>
                </a:solidFill>
                <a:latin typeface="Arial"/>
              </a:rPr>
              <a:t>arc (s, t, 30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6077"/>
                </a:solidFill>
                <a:latin typeface="Arial"/>
              </a:rPr>
              <a:t>link (b, c). </a:t>
            </a:r>
            <a:r>
              <a:rPr b="0" lang="en-US" sz="2000" spc="-1" strike="noStrike">
                <a:solidFill>
                  <a:srgbClr val="476077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76077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76077"/>
                </a:solidFill>
                <a:latin typeface="Arial"/>
              </a:rPr>
              <a:t>arc (t, u, 50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6077"/>
                </a:solidFill>
                <a:latin typeface="Arial"/>
              </a:rPr>
              <a:t>link (a, c). </a:t>
            </a:r>
            <a:r>
              <a:rPr b="0" lang="en-US" sz="2000" spc="-1" strike="noStrike">
                <a:solidFill>
                  <a:srgbClr val="476077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76077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76077"/>
                </a:solidFill>
                <a:latin typeface="Arial"/>
              </a:rPr>
              <a:t>arc (s, u, 20). </a:t>
            </a:r>
            <a:r>
              <a:rPr b="0" lang="en-US" sz="2000" spc="-1" strike="noStrike">
                <a:solidFill>
                  <a:srgbClr val="476077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76077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7607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2 представян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6077"/>
                </a:solidFill>
                <a:latin typeface="Arial"/>
              </a:rPr>
              <a:t>graph ([a, b, c], [p (a, b), p (b, c), p (a, c)]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6077"/>
                </a:solidFill>
                <a:latin typeface="Arial"/>
              </a:rPr>
              <a:t>graph ([s, t, u], [d (s, t, 30), d (t, u, 50), d (s, u, 20)]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7607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Съществуване на път между два върх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6077"/>
                </a:solidFill>
                <a:latin typeface="Arial"/>
              </a:rPr>
              <a:t>link (a, b). </a:t>
            </a:r>
            <a:r>
              <a:rPr b="0" lang="en-US" sz="2000" spc="-1" strike="noStrike">
                <a:solidFill>
                  <a:srgbClr val="476077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476077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6077"/>
                </a:solidFill>
                <a:latin typeface="Arial"/>
              </a:rPr>
              <a:t>way (X, X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6077"/>
                </a:solidFill>
                <a:latin typeface="Arial"/>
              </a:rPr>
              <a:t>way (X, Y) :- link (X, Z), way (Z, Y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6077"/>
                </a:solidFill>
                <a:latin typeface="Arial"/>
              </a:rPr>
              <a:t>way (X, Y) :- link (Z, X), way (Z, Y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За избягване на зациклянет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6077"/>
                </a:solidFill>
                <a:latin typeface="Arial"/>
              </a:rPr>
              <a:t>way (X, X, T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6077"/>
                </a:solidFill>
                <a:latin typeface="Arial"/>
              </a:rPr>
              <a:t>way (X, Y, T) :- link (X, Z), not member (Z, T), way (Z, Y, [X|T]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6077"/>
                </a:solidFill>
                <a:latin typeface="Arial"/>
              </a:rPr>
              <a:t>way (X, Y, T) :- link (Z, X), not member (Z, T), way (Z, Y, [X|T]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DA11-DA9C-4604-AFE4-75B1B41B350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ffffcc"/>
                </a:solidFill>
                <a:latin typeface="Times New Roman"/>
              </a:rPr>
              <a:t>Представяне на граф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7607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Намиране на път между два върх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6077"/>
                </a:solidFill>
                <a:latin typeface="Arial"/>
              </a:rPr>
              <a:t>foundway (S, E, W) :- way1 (S, E, [], R), reverse (R, W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6077"/>
                </a:solidFill>
                <a:latin typeface="Arial"/>
              </a:rPr>
              <a:t>way1 (X, X, T, [X|T]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6077"/>
                </a:solidFill>
                <a:latin typeface="Arial"/>
              </a:rPr>
              <a:t>way1 (X, Y, T, R) :- link (X, Z), not member (Z, T), way1 (Z, Y, [X|T], R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6077"/>
                </a:solidFill>
                <a:latin typeface="Arial"/>
              </a:rPr>
              <a:t>way1 (X, Y, T, R) :- link (Z, X), not member (Z, T), way1 (Z, Y, [X|T], R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D9B5-B7B5-443F-AE5D-43CA7D3D0C7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ffffcc"/>
                </a:solidFill>
                <a:latin typeface="Times New Roman"/>
              </a:rPr>
              <a:t>Двойнствена семантика 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476077"/>
                </a:solidFill>
                <a:latin typeface="Arial"/>
              </a:rPr>
              <a:t>А:- В, 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Декларативен аспект – свързан само с отношенията, описани от програмата и определящ какъв резултат се получава при всяка интересуваща ни комбинация от значения на променливите в програма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Твърдението А е вярно, ако са верни В и С, или от В и С следва 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Процедурен аспект – освен резултата от програмата във всеки случай, определя също и начина, по който резултата се получава, като отчита не само логическите отношения между обектите, но и реда на тяхната обработ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За да се реши проблемът А, трябва отначало да се решат подпроблемите В и С, или за да се удоволетвори целта А, трябва първо да се удоволетворят подцелите В и 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F48B-1EE7-4023-B6FC-20756773362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800" spc="-1" strike="noStrike">
                <a:solidFill>
                  <a:srgbClr val="ffffcc"/>
                </a:solidFill>
                <a:latin typeface="Times New Roman"/>
              </a:rPr>
              <a:t>Предимства на логическото програмиране </a:t>
            </a:r>
            <a:endParaRPr b="0" lang="en-US" sz="3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Всеки параметър може да бъде и входен и изходен в зависимост от желанията на потребите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Като резултат може да се върне несвързана променлива (частично решение на проблем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Множество решения могат да се намерят чрез вградения механизъм на възвра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По-кратки програми от процедурнит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Няма проверка на типове, паралелна обработка 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блокови структур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6ED6-8DA4-4F4A-B2DC-DFC6484E89B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ffffcc"/>
                </a:solidFill>
                <a:latin typeface="Times New Roman"/>
              </a:rPr>
              <a:t>ЗАДАЧИ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Задача 1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Направете експертна система обслужваща транспорта на град Пловди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7AF4-0727-4A0D-92DE-240154A9D30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ffffcc"/>
                </a:solidFill>
                <a:latin typeface="Times New Roman"/>
              </a:rPr>
              <a:t>ТЕСТ 5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Кое не е списък в Пролог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a. [А|S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b. (1, 2, 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c. [[]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d. [D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e. [1, 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Кои два списъка не се унифицират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a. [H] и [1,2]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b. [1, 2, 3] [Z|X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c. K и [1, [2]]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Кой списък може да е празен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a. [ 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b. [X|D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c. [[], []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d. 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e. [P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f. [[]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7FC5-04D1-41A1-A100-E1960891D21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ffffcc"/>
                </a:solidFill>
                <a:latin typeface="Times New Roman"/>
              </a:rPr>
              <a:t>Отговори на Тест 5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Как се реализират повторенията в Пролог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a. чрез рекурсия или итера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b. чрез итера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79788a"/>
                </a:solidFill>
                <a:latin typeface="Arial"/>
              </a:rPr>
              <a:t>c. чрез рекурс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Коя рекурсия е по-опасна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a. дяс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b. и двет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79788a"/>
                </a:solidFill>
                <a:latin typeface="Arial"/>
              </a:rPr>
              <a:t>c. ля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Кой от вградените предикати спира механизма на възврат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a. fa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79788a"/>
                </a:solidFill>
                <a:latin typeface="Arial"/>
              </a:rPr>
              <a:t>b. отсичане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c. и два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Кое не е начин за намиране на всички възможни решения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a. използване на fa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b. натискане на символа 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79788a"/>
                </a:solidFill>
                <a:latin typeface="Arial"/>
              </a:rPr>
              <a:t>c. използване на 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E365-4C24-4E59-8BA4-ACD251C3A4C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ffffcc"/>
                </a:solidFill>
                <a:latin typeface="Times New Roman"/>
              </a:rPr>
              <a:t>Отговори на Тест 5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Кое не е списък в Пролог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a. [А|S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79788a"/>
                </a:solidFill>
                <a:latin typeface="Arial"/>
              </a:rPr>
              <a:t>b. (1, 2, 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c. [[]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d. [D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e. [1, 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Кои два списъка не се унифицират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79788a"/>
                </a:solidFill>
                <a:latin typeface="Arial"/>
              </a:rPr>
              <a:t>a. [H] и [1,2]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b. [1, 2, 3] </a:t>
            </a:r>
            <a:r>
              <a:rPr b="0" lang="bg-BG" sz="21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[Z|X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c. K и [1, [2]]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Кой списък може да е празен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a. [ 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b. [X|D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c. [[], []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79788a"/>
                </a:solidFill>
                <a:latin typeface="Arial"/>
              </a:rPr>
              <a:t>d. 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e. [P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f. [[]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C36C-CDA4-49EB-B1ED-2664D269A00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ffffcc"/>
                </a:solidFill>
                <a:latin typeface="Times New Roman"/>
              </a:rPr>
              <a:t>Работа с БД. Приложение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Работа с Б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Експертни систе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Представяне на двоично дър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Представяне на гра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Двойнствена семанти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Предимства на логическото програмиран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131B-D755-4F38-AD3C-724D2F67CF4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ffffcc"/>
                </a:solidFill>
                <a:latin typeface="Times New Roman"/>
              </a:rPr>
              <a:t>Работа с БД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476077"/>
                </a:solidFill>
                <a:latin typeface="Arial"/>
              </a:rPr>
              <a:t>внук (</a:t>
            </a:r>
            <a:r>
              <a:rPr b="0" lang="en-US" sz="2400" spc="-1" strike="noStrike">
                <a:solidFill>
                  <a:srgbClr val="476077"/>
                </a:solidFill>
                <a:latin typeface="Arial"/>
              </a:rPr>
              <a:t>Z, X) :- </a:t>
            </a:r>
            <a:r>
              <a:rPr b="0" lang="bg-BG" sz="2400" spc="-1" strike="noStrike">
                <a:solidFill>
                  <a:srgbClr val="476077"/>
                </a:solidFill>
                <a:latin typeface="Arial"/>
              </a:rPr>
              <a:t>родител (</a:t>
            </a:r>
            <a:r>
              <a:rPr b="0" lang="en-US" sz="2400" spc="-1" strike="noStrike">
                <a:solidFill>
                  <a:srgbClr val="476077"/>
                </a:solidFill>
                <a:latin typeface="Arial"/>
              </a:rPr>
              <a:t>X, Y</a:t>
            </a:r>
            <a:r>
              <a:rPr b="0" lang="bg-BG" sz="2400" spc="-1" strike="noStrike">
                <a:solidFill>
                  <a:srgbClr val="476077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476077"/>
                </a:solidFill>
                <a:latin typeface="Arial"/>
              </a:rPr>
              <a:t>, </a:t>
            </a:r>
            <a:r>
              <a:rPr b="0" lang="bg-BG" sz="2400" spc="-1" strike="noStrike">
                <a:solidFill>
                  <a:srgbClr val="476077"/>
                </a:solidFill>
                <a:latin typeface="Arial"/>
              </a:rPr>
              <a:t>родител (</a:t>
            </a:r>
            <a:r>
              <a:rPr b="0" lang="en-US" sz="2400" spc="-1" strike="noStrike">
                <a:solidFill>
                  <a:srgbClr val="476077"/>
                </a:solidFill>
                <a:latin typeface="Arial"/>
              </a:rPr>
              <a:t>Y, Z</a:t>
            </a:r>
            <a:r>
              <a:rPr b="0" lang="bg-BG" sz="2400" spc="-1" strike="noStrike">
                <a:solidFill>
                  <a:srgbClr val="476077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476077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6077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476077"/>
                </a:solidFill>
                <a:latin typeface="Arial"/>
              </a:rPr>
              <a:t>:-’ </a:t>
            </a:r>
            <a:r>
              <a:rPr b="0" lang="bg-BG" sz="2400" spc="-1" strike="noStrike">
                <a:solidFill>
                  <a:srgbClr val="476077"/>
                </a:solidFill>
                <a:latin typeface="Arial"/>
              </a:rPr>
              <a:t>внук (</a:t>
            </a:r>
            <a:r>
              <a:rPr b="0" lang="en-US" sz="2400" spc="-1" strike="noStrike">
                <a:solidFill>
                  <a:srgbClr val="476077"/>
                </a:solidFill>
                <a:latin typeface="Arial"/>
              </a:rPr>
              <a:t>Z, X), ‘,’ </a:t>
            </a:r>
            <a:r>
              <a:rPr b="0" lang="bg-BG" sz="2400" spc="-1" strike="noStrike">
                <a:solidFill>
                  <a:srgbClr val="476077"/>
                </a:solidFill>
                <a:latin typeface="Arial"/>
              </a:rPr>
              <a:t>родител (</a:t>
            </a:r>
            <a:r>
              <a:rPr b="0" lang="en-US" sz="2400" spc="-1" strike="noStrike">
                <a:solidFill>
                  <a:srgbClr val="476077"/>
                </a:solidFill>
                <a:latin typeface="Arial"/>
              </a:rPr>
              <a:t>X, Y</a:t>
            </a:r>
            <a:r>
              <a:rPr b="0" lang="bg-BG" sz="2400" spc="-1" strike="noStrike">
                <a:solidFill>
                  <a:srgbClr val="476077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476077"/>
                </a:solidFill>
                <a:latin typeface="Arial"/>
              </a:rPr>
              <a:t>, </a:t>
            </a:r>
            <a:r>
              <a:rPr b="0" lang="bg-BG" sz="2400" spc="-1" strike="noStrike">
                <a:solidFill>
                  <a:srgbClr val="476077"/>
                </a:solidFill>
                <a:latin typeface="Arial"/>
              </a:rPr>
              <a:t>родител (</a:t>
            </a:r>
            <a:r>
              <a:rPr b="0" lang="en-US" sz="2400" spc="-1" strike="noStrike">
                <a:solidFill>
                  <a:srgbClr val="476077"/>
                </a:solidFill>
                <a:latin typeface="Arial"/>
              </a:rPr>
              <a:t>Y, Z</a:t>
            </a:r>
            <a:r>
              <a:rPr b="0" lang="bg-BG" sz="2400" spc="-1" strike="noStrike">
                <a:solidFill>
                  <a:srgbClr val="476077"/>
                </a:solidFill>
                <a:latin typeface="Arial"/>
              </a:rPr>
              <a:t>)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bg-BG" sz="2400" spc="-1" strike="noStrike">
                <a:solidFill>
                  <a:srgbClr val="476077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където ‘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-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и ‘,‘ са функтор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6077"/>
                </a:solidFill>
                <a:latin typeface="Arial"/>
              </a:rPr>
              <a:t>lisral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всички клаузите от БД се записват в текущия изходен фай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6077"/>
                </a:solidFill>
                <a:latin typeface="Arial"/>
              </a:rPr>
              <a:t>listing (&lt;</a:t>
            </a:r>
            <a:r>
              <a:rPr b="0" lang="bg-BG" sz="2400" spc="-1" strike="noStrike">
                <a:solidFill>
                  <a:srgbClr val="476077"/>
                </a:solidFill>
                <a:latin typeface="Arial"/>
              </a:rPr>
              <a:t>функтор</a:t>
            </a:r>
            <a:r>
              <a:rPr b="0" lang="en-US" sz="2400" spc="-1" strike="noStrike">
                <a:solidFill>
                  <a:srgbClr val="476077"/>
                </a:solidFill>
                <a:latin typeface="Arial"/>
              </a:rPr>
              <a:t>&gt;</a:t>
            </a:r>
            <a:r>
              <a:rPr b="0" lang="bg-BG" sz="2400" spc="-1" strike="noStrike">
                <a:solidFill>
                  <a:srgbClr val="476077"/>
                </a:solidFill>
                <a:latin typeface="Arial"/>
              </a:rPr>
              <a:t>)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– клаузите от БД с този функтор се записват в текущия изходен файл (напр. екран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6077"/>
                </a:solidFill>
                <a:latin typeface="Arial"/>
              </a:rPr>
              <a:t>clause (&lt;</a:t>
            </a:r>
            <a:r>
              <a:rPr b="0" lang="bg-BG" sz="2400" spc="-1" strike="noStrike">
                <a:solidFill>
                  <a:srgbClr val="476077"/>
                </a:solidFill>
                <a:latin typeface="Arial"/>
              </a:rPr>
              <a:t>глава&gt;, &lt;тяло&gt;</a:t>
            </a:r>
            <a:r>
              <a:rPr b="0" lang="en-US" sz="2400" spc="-1" strike="noStrike">
                <a:solidFill>
                  <a:srgbClr val="476077"/>
                </a:solidFill>
                <a:latin typeface="Arial"/>
              </a:rPr>
              <a:t>)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– удоволетворява се при намиране на клауза с тези глава и тял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6077"/>
                </a:solidFill>
                <a:latin typeface="Arial"/>
              </a:rPr>
              <a:t>assert (&lt;</a:t>
            </a:r>
            <a:r>
              <a:rPr b="0" lang="bg-BG" sz="2400" spc="-1" strike="noStrike">
                <a:solidFill>
                  <a:srgbClr val="476077"/>
                </a:solidFill>
                <a:latin typeface="Arial"/>
              </a:rPr>
              <a:t>клауза&gt;)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476077"/>
                </a:solidFill>
                <a:latin typeface="Arial"/>
              </a:rPr>
              <a:t>assert</a:t>
            </a:r>
            <a:r>
              <a:rPr b="0" lang="bg-BG" sz="2400" spc="-1" strike="noStrike">
                <a:solidFill>
                  <a:srgbClr val="476077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476077"/>
                </a:solidFill>
                <a:latin typeface="Arial"/>
              </a:rPr>
              <a:t> (&lt;</a:t>
            </a:r>
            <a:r>
              <a:rPr b="0" lang="bg-BG" sz="2400" spc="-1" strike="noStrike">
                <a:solidFill>
                  <a:srgbClr val="476077"/>
                </a:solidFill>
                <a:latin typeface="Arial"/>
              </a:rPr>
              <a:t>клауза&gt;)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bg-BG" sz="2400" spc="-1" strike="noStrike">
                <a:solidFill>
                  <a:srgbClr val="476077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476077"/>
                </a:solidFill>
                <a:latin typeface="Arial"/>
              </a:rPr>
              <a:t>assertz (&lt;</a:t>
            </a:r>
            <a:r>
              <a:rPr b="0" lang="bg-BG" sz="2400" spc="-1" strike="noStrike">
                <a:solidFill>
                  <a:srgbClr val="476077"/>
                </a:solidFill>
                <a:latin typeface="Arial"/>
              </a:rPr>
              <a:t>клауза&gt;)</a:t>
            </a:r>
            <a:r>
              <a:rPr b="0" lang="en-US" sz="2400" spc="-1" strike="noStrike">
                <a:solidFill>
                  <a:srgbClr val="476077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добавяне на нови клаузи към БД на мястото на последната изтрита (или в края), в началото, в края на клаузите със същия функто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4D19-EEDF-47C0-A36B-B3859023112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ffffcc"/>
                </a:solidFill>
                <a:latin typeface="Times New Roman"/>
              </a:rPr>
              <a:t>Работа с БД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6077"/>
                </a:solidFill>
                <a:latin typeface="Arial"/>
              </a:rPr>
              <a:t>delete (&lt;</a:t>
            </a:r>
            <a:r>
              <a:rPr b="0" lang="bg-BG" sz="2400" spc="-1" strike="noStrike">
                <a:solidFill>
                  <a:srgbClr val="476077"/>
                </a:solidFill>
                <a:latin typeface="Arial"/>
              </a:rPr>
              <a:t>функтор</a:t>
            </a:r>
            <a:r>
              <a:rPr b="0" lang="en-US" sz="2400" spc="-1" strike="noStrike">
                <a:solidFill>
                  <a:srgbClr val="476077"/>
                </a:solidFill>
                <a:latin typeface="Arial"/>
              </a:rPr>
              <a:t>&gt;)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– изтрива всички клаузи с това име на функто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6077"/>
                </a:solidFill>
                <a:latin typeface="Arial"/>
              </a:rPr>
              <a:t>retract (</a:t>
            </a:r>
            <a:r>
              <a:rPr b="0" lang="bg-BG" sz="2400" spc="-1" strike="noStrike">
                <a:solidFill>
                  <a:srgbClr val="476077"/>
                </a:solidFill>
                <a:latin typeface="Arial"/>
              </a:rPr>
              <a:t>&lt;клауза&gt;</a:t>
            </a:r>
            <a:r>
              <a:rPr b="0" lang="en-US" sz="2400" spc="-1" strike="noStrike">
                <a:solidFill>
                  <a:srgbClr val="476077"/>
                </a:solidFill>
                <a:latin typeface="Arial"/>
              </a:rPr>
              <a:t>)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– изтрива първата клауза, която се унифицира с зададения аргумен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p :- p2, p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?- retract ((p :- A, B)), assert ((p :- B, A, p3)), listing (p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A=p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B=p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p :-  p1, p2, p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61DE-EEF2-4E2D-B6C1-358FDB626BB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ffffcc"/>
                </a:solidFill>
                <a:latin typeface="Times New Roman"/>
              </a:rPr>
              <a:t>Експертни системи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476077"/>
                </a:solidFill>
                <a:latin typeface="Arial"/>
              </a:rPr>
              <a:t>Експертни системи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– компютърни програми, които решават задачи по начин, който може да се разглежда като интелигентен, ако се изпълнява от човек, т. е. наподобяват работата на експерт в дадена ПО. Структур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47607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База от знания – съдържа експертни знания за конкретна ПО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47607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Ядро 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8cb0a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ffffff"/>
                </a:solidFill>
                <a:latin typeface="Arial"/>
              </a:rPr>
              <a:t>Машина за извод – описва начините за използване на знанията от ПО, указва как, кога и в какъв ред трябва да се прилагат знанията, т. е. реализира общите знания за това, как се решават задачи от ПО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8cb0a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ffffff"/>
                </a:solidFill>
                <a:latin typeface="Arial"/>
              </a:rPr>
              <a:t>Интерфейс – осъществява диалога между потребителя и системата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47607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Реализация чрез Пролог – БЗ = факти + правила, машина за извод е вградения механизъм за дедуктивен извод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29EB-C8BE-4A40-BBD8-6CDF6301E9B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ffffcc"/>
                </a:solidFill>
                <a:latin typeface="Times New Roman"/>
              </a:rPr>
              <a:t>Представяне на двоично дърво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47607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ffffff"/>
                </a:solidFill>
                <a:latin typeface="Arial"/>
              </a:rPr>
              <a:t>1 представяне – корена е главен функтор, а поддърветата са аргументи на структурата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476077"/>
                </a:solidFill>
                <a:latin typeface="Arial"/>
              </a:rPr>
              <a:t>а</a:t>
            </a:r>
            <a:r>
              <a:rPr b="0" lang="en-US" sz="2100" spc="-1" strike="noStrike">
                <a:solidFill>
                  <a:srgbClr val="476077"/>
                </a:solidFill>
                <a:latin typeface="Arial"/>
              </a:rPr>
              <a:t> </a:t>
            </a:r>
            <a:r>
              <a:rPr b="0" lang="bg-BG" sz="2100" spc="-1" strike="noStrike">
                <a:solidFill>
                  <a:srgbClr val="476077"/>
                </a:solidFill>
                <a:latin typeface="Arial"/>
              </a:rPr>
              <a:t>(</a:t>
            </a:r>
            <a:r>
              <a:rPr b="0" lang="en-US" sz="2100" spc="-1" strike="noStrike">
                <a:solidFill>
                  <a:srgbClr val="476077"/>
                </a:solidFill>
                <a:latin typeface="Arial"/>
              </a:rPr>
              <a:t>b, c (d))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47607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ffffff"/>
                </a:solidFill>
                <a:latin typeface="Arial"/>
              </a:rPr>
              <a:t>2 представяне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- bintree (L, X, R), nil – </a:t>
            </a:r>
            <a:r>
              <a:rPr b="0" lang="bg-BG" sz="2100" spc="-1" strike="noStrike">
                <a:solidFill>
                  <a:srgbClr val="ffffff"/>
                </a:solidFill>
                <a:latin typeface="Arial"/>
              </a:rPr>
              <a:t>празно дърво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76077"/>
                </a:solidFill>
                <a:latin typeface="Arial"/>
              </a:rPr>
              <a:t>bintree (bintree (nil, b, nil), a, bintree (bintree (nil, d, nil), c, nil)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47607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ffffff"/>
                </a:solidFill>
                <a:latin typeface="Arial"/>
              </a:rPr>
              <a:t>Принадлежност на елемент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76077"/>
                </a:solidFill>
                <a:latin typeface="Arial"/>
              </a:rPr>
              <a:t>mem_bin (X, bintree (_, X, _))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76077"/>
                </a:solidFill>
                <a:latin typeface="Arial"/>
              </a:rPr>
              <a:t>mem_bin (X, bintree (L, _, _)) :- mem_bin (X, L)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76077"/>
                </a:solidFill>
                <a:latin typeface="Arial"/>
              </a:rPr>
              <a:t>mem_bin (X, bintree ( _, _, R)) :- mem_bin (X, R)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47607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ffffff"/>
                </a:solidFill>
                <a:latin typeface="Arial"/>
              </a:rPr>
              <a:t>Включване на елемент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76077"/>
                </a:solidFill>
                <a:latin typeface="Arial"/>
              </a:rPr>
              <a:t>input (nil, X, bintree (nil, X, nil))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76077"/>
                </a:solidFill>
                <a:latin typeface="Arial"/>
              </a:rPr>
              <a:t>input (bintree (L, X, R), X, bintree (L, X, R))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76077"/>
                </a:solidFill>
                <a:latin typeface="Arial"/>
              </a:rPr>
              <a:t>input (bintree (L, K, R), X, bintree (L1, K, R)) :- K&gt;X, input (L, X, L1)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76077"/>
                </a:solidFill>
                <a:latin typeface="Arial"/>
              </a:rPr>
              <a:t>input (bintree (L, K, R), X, bintree (L, K, R1)) :- K&lt;X, input (R, X, R1)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0571-09AC-4289-9201-942415BA3CA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3T12:38:45Z</dcterms:created>
  <dc:creator>Elena Somova</dc:creator>
  <dc:description/>
  <dc:language>en-US</dc:language>
  <cp:lastModifiedBy>presentation</cp:lastModifiedBy>
  <dcterms:modified xsi:type="dcterms:W3CDTF">2007-11-09T06:28:46Z</dcterms:modified>
  <cp:revision>134</cp:revision>
  <dc:subject/>
  <dc:title>Логическо програмиране</dc:title>
</cp:coreProperties>
</file>