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6796-6EB5-4D65-A893-C34437A9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FF33-696C-44C2-A9F7-D21EA352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4DC3-B429-4EB4-9FD7-4908B4C4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085C-3A29-47EC-AD6E-FA3DC625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05A2-8206-4456-96A2-96E7597B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3F90-8378-4F6C-8E11-13B04779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9FC0-A0DA-4C21-A809-21C70657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82AF-1856-4C6C-83F7-81CE4470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F7B2-818D-47EA-8B91-18DB9D69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A226-633E-49E4-A7C0-9B90AD8C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74BD-CD7F-42F9-AC88-17EEF7A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3AF6-8799-45AA-AC8B-2A132E27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4074-9106-4E13-ACB2-7534FC32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6.11.20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556920"/>
            <a:ext cx="84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lvl="2" marL="548280" indent="-219240">
              <a:spcBef>
                <a:spcPts val="55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XM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ози популярен стандарт за формати-ране позволява данните да бъдат съхранява-ни в логическа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 структура.</a:t>
            </a:r>
            <a:br>
              <a:rPr sz="24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текстовият низ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ani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ana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e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lgaria &lt;/I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Stolica&gt; Sofia &lt;/Stolic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Strana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Strani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След като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документът се зареди във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lash,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 извличане на информация от него се използва скрип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 (който обаче трябва вие да напишете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E5AC7-8D23-4EB8-AD0A-87D86C3AA0B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1066680" indent="-42660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Ако искаме да интерпретирам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в текстово поле,  е нужно да използваме свойството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htmlText, a 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не познатото н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.text. K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ато преди това, разбира се трябва да натиснете бутона “</a:t>
            </a:r>
            <a:r>
              <a:rPr b="0" lang="en-US" sz="2300" spc="-1" strike="noStrike">
                <a:solidFill>
                  <a:srgbClr val="000000"/>
                </a:solidFill>
                <a:latin typeface="CourierCyr"/>
              </a:rPr>
              <a:t>Render text as HTML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ert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B633-A3D9-4199-A695-67CAB4A62AB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1120" y="3409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инамично форматиране на текст с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HTM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0" y="1339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2" marL="472320" indent="-18864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инамичните полета и полетата за въвеждане на текст 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огат да бъдат задавани да интерпретир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д, както споменах по-рано. Което означава, че можете да визуализирате текс, съдържащ хипервръзки и различни цветове и стилове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 да интерпретира следн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гове:</a:t>
            </a:r>
            <a:br>
              <a:rPr sz="2000"/>
            </a:b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а&gt; // за котва, хипервръзк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удебелен текст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 ред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colo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вят на тек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fac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ил на шрифта на текс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siz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 // големина на текст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// наклонен текс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// нов параграф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u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// подчертан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CE80-D10F-4A5B-AE69-7FAC4E662E6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91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411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Поделени обекти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последната част на тази лекция ще ги разгледаме по-подробно. А за сега просто ще приемем тези поделени обекти кат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"бисквитки“. Т.е. те ви позволяват да съхранявате обекти (данни) локално, на хард диска на потребителя. Това означава, че след като потребителят разгледа и напусне филма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като прожекция или он-лайн), данните, създадени но време на възпроизвеждането на филма (име на потребител, последна посетена секция и т.н.) се записват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ва означава, че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ези данни могат да бъдат извличани следващия път, когато потребителят възпроизведе филма на същия компютъ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71C6-80A0-4779-AECC-6EFB7EF3BB3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7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lvl="2" marL="685440" indent="-273960">
              <a:spcBef>
                <a:spcPts val="601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помощта на поделени обекти можете да съхра-нявате не само променливи и техните стойности, но и всеки вид обекти на данни - масиви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екти, д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и потребителски обекти. Можете да направите този процес на запис прозрачен за потребителите или да им предоставите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утони, за да инициират действие.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един компютър можете да имате множес-тво файлове с поделени обекти на данни, защото всеки филм обикновено (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почти винаг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създава свой собствен файл с дан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D18D-3687-4AB5-8846-38FA2A06A4E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5569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2" marL="776880" indent="-310680">
              <a:spcBef>
                <a:spcPts val="799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ответно източниците, от коит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 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режда данни са: </a:t>
            </a:r>
            <a:br>
              <a:rPr sz="2200"/>
            </a:b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Текстови файлове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оже да зарежда текстови файлов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.t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съдържащи данни, форматирани с помощта на форма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из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поменат по-горе. Текстовите файлове могат да бъдат зареждани с помощта на метод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Variables</a:t>
            </a:r>
            <a:r>
              <a:rPr b="0" lang="bg-BG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bg-BG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bg-BG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на обект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DDA0-89A1-401F-8F2A-FC6C2B89C14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2760" y="485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Скриптове на страната на сървъра (сървърни скриптове)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Това са скриптове, поставени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P, CFM, CGI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раници, които се изпълняват от сървър. Макар и невидимо за потребителя, скриптовата страница реално генерира формати-рани данн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TML, XM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 т.н.), които се изпращат обратно на източника, отправил заявка за тях. Представете с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, че посещавате страница, наречен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s.as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ято съдържа скрипт на страната на сървъра и вероятно никакво реално съдържание: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риптът - който се изпълня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треб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елят посети страницата се използва, за да ге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ира динамично страница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A3FE-5F53-473C-A375-2962D510AE6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91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lvl="2" marL="883800" indent="-3531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и страница обикновено съдържа последните новини (вероятно извлечени от база данни) и се изпраща (от скрипта към браузъра на потре-бителя. Скриптовете на страната на сървъра могат да връщат данни както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ака и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из - което означава, че посредством комуникация със страница, която съдържа скрипт на страната на сървъра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 да зарежда динамични данни, създавани по време на самото изпълн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3E4A-249D-4C8A-94EF-3C6ECAE9279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948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2" marL="822600" indent="-329040">
              <a:spcBef>
                <a:spcPts val="601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файлове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айлът е просто текстов файл, който обаче съдържа съдърж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форматирани данни; такива файлове обикнове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имат разшир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2600" indent="-3290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сокет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окет сървърите представляват приложения, които се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пълняват на сървър и свързват няколко едновременно работещи потребителя един с друг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 да изпраща или приема информация, посредством сокета като използва форма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C380-0A6E-4CEA-A36A-5285ABFB173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2760" y="63000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lvl="2" marL="1218960" indent="-4874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Поделени обекти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кто беше отбелязано по-горе, поделените обекти се използват за създаване на файл с данни, който съхранява информация на твърдия диск на потребителя - който след това можете да извличате и да вграждате обратно във филм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FCC9-AD60-43CD-B219-E79F171A4EF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1854000"/>
            <a:ext cx="7869240" cy="27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Въвеждане и извеждане на данни от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. Използване н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ru-RU" sz="3000" spc="-1" strike="noStrike">
                <a:solidFill>
                  <a:srgbClr val="a50021"/>
                </a:solidFill>
                <a:latin typeface="Arial"/>
              </a:rPr>
              <a:t>.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Практик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50760" y="1206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ECD2-9E87-4584-886B-9ED6EF9732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8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равнение между методи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ET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OST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работите със скриптове на страната на сървъра, (както бе отбелязано по-горе), има два начина (метода) за трансфер на данни между сървър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GE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зи два метода за изпращане на промен-ливи и асоциираните с тях стойности се използват в обикновен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раници и 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наги когато данни, въведени във формуляр, се изпращат към сървър, за да бъдат обработ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изпращате променливи с помощт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сто сливате двойки "име на променлива/стойност" в сам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пример, ако искате да използва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те име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дрес към скрипт, разположен на страницат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register</a:t>
            </a:r>
            <a:r>
              <a:rPr b="0" lang="ru-RU" sz="2000" spc="-1" strike="noStrike">
                <a:solidFill>
                  <a:srgbClr val="000000"/>
                </a:solidFill>
                <a:latin typeface="CourierCyr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ябва да задад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 след­ния начин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domai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19A0-4E20-4458-BC94-3AD2B336374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2" marL="639720" indent="-25596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ъпросителният знак, поставен пред променливите, указва на скрипта и на сървъра, че всичко, к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, следва след знака, съдържа променливи. Въпреки че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е по-лесен за използване о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той не рабо-ти при всички случаи, защото има ограничение от 1024 знака, а и по-малка сигурност на предаваните дан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се използва по следния начин: когато промен-ливите данни се</a:t>
            </a:r>
            <a:r>
              <a:rPr b="0" i="1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ращат с него, тези данни се съдържат в хедъра н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питването, което означава, че не можете да ги видите по време на трансфера. Тъй като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яма ограничение на броя на знаковете, той осигурява малко по-гъвкав начин за изпращане па променливи дан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57280"/>
            <a:ext cx="884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равнение между методи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ET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OST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AB80-4FAA-48E8-8482-5C5A0BB7AABC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е използваме обек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работим с данни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из. Този обект ни позволява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реждам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от текстов файл или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изпращаме и зареждам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към и от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рипт на страната на сървъ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862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ажно е да запомните, че: </a:t>
            </a:r>
            <a:r>
              <a:rPr b="0" i="1" lang="bg-BG" sz="2200" spc="-1" strike="noStrike">
                <a:solidFill>
                  <a:srgbClr val="a50021"/>
                </a:solidFill>
                <a:latin typeface="Arial"/>
              </a:rPr>
              <a:t>променливите данни, съдържащи се в текстовия файл могат да бъдат заредени във </a:t>
            </a: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0" i="1" lang="ru-RU" sz="2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bg-BG" sz="2200" spc="-1" strike="noStrike">
                <a:solidFill>
                  <a:srgbClr val="a50021"/>
                </a:solidFill>
                <a:latin typeface="Arial"/>
              </a:rPr>
              <a:t>но </a:t>
            </a: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Flash </a:t>
            </a:r>
            <a:r>
              <a:rPr b="0" i="1" lang="bg-BG" sz="2200" spc="-1" strike="noStrike">
                <a:solidFill>
                  <a:srgbClr val="a50021"/>
                </a:solidFill>
                <a:latin typeface="Arial"/>
              </a:rPr>
              <a:t>не може директно да записва данни в текстов файл; трябва да използвате скрипт на страната на сървъра, за да направите т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0760-3C1F-42F0-B963-06FDF4160D4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2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lvl="2" marL="594000" indent="-2376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е използвате обек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работите с данни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из. Този обект ви позволява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реждат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от текстов файл или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изпращате и зареждат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към и от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рипт на страната на сървъ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94000" indent="-2376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здаването на обект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Vars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 просто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onteiner = new LoadVars();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ака създавате нов обек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с име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onteiner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. За да заредите променливи о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обек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, трябва да използвате метода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();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5D07-F814-4133-A0F3-99051C0E976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4247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lvl="2" marL="594000" indent="-2376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получите по всяко време общия брой байтове, заредени до момента, или общия брой байтове, които ще бъдат заредени, може да използвате методите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BytesLoade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BytesTotal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4000" indent="-237600"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данните се заредени в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те да осъществявате достъп до тях като се обърнете към името на конкретния об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държащ данните, които искате, следван от името на променливата на тази част от даннит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пример, ако искаме да заредим долния низ в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 име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iDan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= teach&amp;subject = 2&amp;matematika = Lisabon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ите на тези променливи могат да се запишат:</a:t>
            </a:r>
            <a:br>
              <a:rPr sz="20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iDann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iDann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ject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9B9F-3A1E-4E65-BB51-27FFB24DFED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lvl="2" marL="807480" indent="-322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зи променливи стойности в об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Vars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огат да бъдат задавани не само чрез за-реждане на външни данни, а също чрез вът-решно задаване на техните стойности (с по-мощта на скрипт вътре във филма. Като,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когато зареждате променливи в обекта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LoadVars, Flash </a:t>
            </a:r>
            <a:r>
              <a:rPr b="0" i="1" lang="bg-BG" sz="2400" spc="-1" strike="noStrike">
                <a:solidFill>
                  <a:srgbClr val="a50021"/>
                </a:solidFill>
                <a:latin typeface="Arial"/>
              </a:rPr>
              <a:t>ще замени стойностите на променливите, които вече съществуват в обекта и ще добави нови стойности на променливи, които още не съществув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0EB2-06BD-490B-8CCC-7668C704CA4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07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lvl="2" marL="838080" indent="-335160"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искате да изпратите променливите на обект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ъм скрипт на страната на сървъра за обработка, трябва да използвате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nd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интаксисът е следният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_obekt_LoadVars.send (“URL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на скрип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)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използвате този метод, отговорът не се изпраща обратно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което означава, че можете да го използвате само за изпращане на променливи данни на сървъра за обработ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F0AC-E683-42B4-9BB0-C77EFA9D64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2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lvl="2" marL="548280" indent="-2192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тодъ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ndAndLoad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ви дава възможност да зададете обек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държанието на който искате да изпратите и обек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който ис-кате да заредите отговора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e_obekt_LoadVars.send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dL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“URL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на скрип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получаващия обект);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а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горния метод си решавате проблема с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ратно изпращане на данните къ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48280" indent="-2192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помощта на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на обект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те да създаде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форматиран низ, който представя двойки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а/сто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ост", съдържащи се в об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48280" indent="-2192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48280" indent="-219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7213-8361-4A08-A1D3-0F3F1D9FF4E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4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2" marL="731160" indent="-292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две свойства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nt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e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ntTyp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което можете да променяте преди да изпращате променлив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осто ви дава мним тип, зададен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едъра на заредения документ.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сто връщ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зареждането на данните в обекта е завършило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не 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defin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метод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ще не е извик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160" indent="-292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достъпно само едно събитие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Lo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те да използвате това събитие, за да извикате функция когато завърши зареждането на данни в обекта. Всеки път, когато данните се зареждат в обекта, това събитие настъпва отн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5982-79E1-47F8-B9F1-E3CA6DEE0AEE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22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lvl="2" marL="959760" indent="-3837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заредите променливи от конкрет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след това да го накарате да извика функция, когато зареждането завърши, вие трябва д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Дефинирате функц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ъздадете нов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помощта на конструктора на нов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Зададете функцията, която трябва да бъде извика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 когато завърш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зареждане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9760" indent="-3837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1709-A7F9-4FA9-B8A2-3D8DB995400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04840" y="1855800"/>
            <a:ext cx="778824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ждане и извеждане на данни от 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lash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щност на източниците на данни и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форматиране на дан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равнение между метод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об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Var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поделени обе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9B04-2669-4E78-A048-3FC5AAA3AB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07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lvl="2" marL="807480" indent="-322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ът може да съхранява данни (променливи, както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 и други обекти на данни) на твърдия диск на потребителя, използвайки поделени обекти - подобни, но много по-мощни от бисквитк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okies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е използват от браузърите: Можете да ги използвате, за да съхранявате информация, генери-рана от потребителя докато разглежда вашия филм (име, последен посетен кадър, предпочитание за музика и др.). Поделените обекти могат да бъдат използвани от филми, възпроизвеждан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раузър, както и от филми, записани като самостоятелни прожек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proje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A289-C8F7-4660-B796-99B071D5FB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94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ен скрипт, който можете да използвате, за да създадете поделен обект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aredObject.getLocal("stuff_I_saved")</a:t>
            </a:r>
            <a:r>
              <a:rPr b="1" lang="bg-BG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Тук ако,  по начина, по който е използван по-горе, методъ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Loca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) или ще създаде поделен обект, (ако такъв не съществува), или ще извлече данни от съществуващ поделен об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оре името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поделения обект реално 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uflLI_jsaved"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те да правите обръщение към поделения обект директно по неговото име;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това обръщението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м поделения обект се създава с помощта н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Object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ва означава, че винаги когато се обръщате към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Objec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рипт, реално се обръщате към поделения обект с им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uff_I_saved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— сложна, но важна концепция, за д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берете как рабо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c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елени обек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525C-B5E7-4E2A-9A2C-C5783043EF97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1411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анните се записват в поделен обект с помощта на свойството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Object.data.userName 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name.tex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ще запише променливат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и нейната стойност- текста в текстовото поле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поделения обект. Можете да записвате също и цял  об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ин поделен обект може да съдържа много части от данни едновременно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Object.data.savedArray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OfArrayObject;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Object.data.savedXML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OfXMLObjec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2430-DCC0-44B9-B952-B0BEB16330AF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2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нкретна част от данни може да бъде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трита от поделен обект с помощта н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F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есията завърши (т.е. при затваряне или напускане на филма), цялата информация на свойството </a:t>
            </a:r>
            <a:r>
              <a:rPr b="0" lang="en-US" sz="2200" spc="-1" strike="noStrike">
                <a:solidFill>
                  <a:srgbClr val="000000"/>
                </a:solidFill>
                <a:latin typeface="CourierCyr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 поделен обект се записв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автоматично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поделения обектен файл, готова да бъде извлечена с помощта на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Cyr"/>
              </a:rPr>
              <a:t>getLocal</a:t>
            </a:r>
            <a:r>
              <a:rPr b="0" lang="bg-BG" sz="2200" spc="-1" strike="noStrike">
                <a:solidFill>
                  <a:srgbClr val="000000"/>
                </a:solidFill>
                <a:latin typeface="CourierCyr"/>
              </a:rPr>
              <a:t>(),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описан по-горе. Можете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дължит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делен обект да бъде написан и съхранен по всяко време като използвате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Cyr"/>
              </a:rPr>
              <a:t>flush</a:t>
            </a:r>
            <a:r>
              <a:rPr b="0" lang="bg-BG" sz="2200" spc="-1" strike="noStrike">
                <a:solidFill>
                  <a:srgbClr val="000000"/>
                </a:solidFill>
                <a:latin typeface="CourierCyr"/>
              </a:rPr>
              <a:t>()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Object.flush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2325-9DF1-4163-A4CE-3F4321AF1088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lvl="2" marL="761760" indent="-3045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орният код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указва задъл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лно записване на поделен обект и всички данни, които съдържа. Тъй като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 обръщение към поделен обект с име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"stuff_I_saved"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ова е обектът, който реално ще бъде запис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хранява всички поделени обекти в централно местоположение на твърдия диск на потребителя - точното местоположение ще зависи 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ястото, където се намира филмът, който ги е съз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4663-3BCB-4CD7-BDDB-F956FA50DA69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0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P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поделените обекти се съхраняват в следната основна директория: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Cyr"/>
              </a:rPr>
              <a:t>c:\Documents and Settings\&lt;username&gt;ApplicationData\Macromedia\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Cyr"/>
              </a:rPr>
              <a:t>FlashPlayer\</a:t>
            </a:r>
            <a:br>
              <a:rPr sz="1600"/>
            </a:b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Разбира се според версията на операционна система този път е различен, така че най-сигурно е да потърсите поделените обекти като пуснете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nd 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по разширението, което използват: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1" lang="bg-BG" sz="1600" spc="-1" strike="noStrike">
                <a:solidFill>
                  <a:srgbClr val="a50021"/>
                </a:solidFill>
                <a:latin typeface="CourierCy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орният път е основен - т.е. когато даден филм създава поделен обект, се създава нова поддиректория на едно от горните местопо-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B533-46FE-4851-9A7F-CAAB89F3AE4C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FLAS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DE74-4843-4308-B80E-84A580772F2D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ът прави поточно възпроизвеждане на филм-четата, което означава, че когато размера на файла е по-голям и връзката в Интернет на потребителя е лоша, това би довело до нежелано насичане на кадри, чакане за пъ-лен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preloading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т се различни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preload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и, действащи горе-долу по един и същи начин. Те циклично проверяват дали се е заредил последния (или някой друг, нужен за възпроизвеждане) кадър (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после пускат вече зареденото филм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като сме напълно готови с анимацията добавяме нова сцена с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Insert -&gt; New Scen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я слагаме в началото, т.е. тя трябва да се зареди първа. След това натискаме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Ctrl+Enter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ва пъти и ако не се вижда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Bandwith Profil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тискате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Ctr+B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Bandwith Profil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имулира поточно възпроизвеждане при дадена скорост на връзката (настройте го на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28.8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може да видим как ще се възпроизвежда филмчето в W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2747-0E11-4672-AFAB-53E8E79E3A46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его ще видим червена линия, за която говорихме в една от предните лекции. Над тази линия почти винаг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е вижда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асти от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а отделните фрей-мове съдържащи символи с размер по-голям от необхо-димия, за да върви филмчето глад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кликване на мишката върху тез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 можем 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дим съответния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 превишен размер. Записваме си тези кадри (например frame 30, frame 214  и т.н.), после се връщате в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Edit mod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копирайки един по един симво-лите от тези кадри ги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paste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ме (вмъкваме) в новата (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пър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сцена. Няма значение дали са подредени на плат-ното, просто на един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lay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ъздаваме нов frame за всеки символ и го вмъкнете. И така се събират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дъра с пръс-нати символи, които в повечето случаи са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impor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нати обекти (.JPG, .BMP или по-сложни MC-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6ADF-FC0C-4C82-8D7F-575DC00EB332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его ще видим червена линия, за която говорихме в една от предните лекции. Над тази линия почти винаг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е вижда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асти от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а отделните фрей-мове съдържащи символи с размер по-голям от необхо-димия, за да върви филмчето глад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кликване на мишката върху тез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 можем 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дим съответния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 превишен размер. Записваме си тези кадри (например frame 30, frame 214  и т.н.), после се връщате в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Edit mod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копирайки един по един симво-лите от тези кадри ги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paste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ме (вмъкваме) в новата (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пър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сцена. Няма значение дали са подредени на плат-ното, просто на един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lay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ъздаваме нов frame за всеки символ и го вмъкнете. И така се събират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дъра с пръс-нати символи, които в повечето случаи са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impor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нати обекти (.JPG, .BMP или по-сложни MC-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DEEE-9B70-4887-B08D-D817DDAC86B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38280" y="1782360"/>
            <a:ext cx="67788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ash MX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снови н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сокет сървъ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38280" y="3871800"/>
            <a:ext cx="6778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Практика 5</a:t>
            </a:r>
            <a:r>
              <a:rPr b="0" lang="bg-BG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6323-43F4-4ADC-B181-5A2BA6EF26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2" marL="578880" indent="-231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накрая, за да не се виждат разхвърляните по платното символи докато се зарежда, се маркират всичките им кадри от долния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lay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ги преместваме непосредствено след втория фрейм с Action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gotoAndPlay (1)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края се слага и един </a:t>
            </a:r>
            <a:r>
              <a:rPr b="0" i="1" lang="bg-BG" sz="2000" spc="-1" strike="noStrike">
                <a:solidFill>
                  <a:srgbClr val="000000"/>
                </a:solidFill>
                <a:latin typeface="CourierCyr"/>
              </a:rPr>
              <a:t>Loading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ежду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 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 5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(цикленето), за да разбира нашия потребител, че нещо се случв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андартният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preload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цикли докато се зареди (обикно-вено) целият файл. Това не е много добре за големи файлове, каквито има в повечето изцяло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йтове.</a:t>
            </a:r>
            <a:br>
              <a:rPr sz="2000"/>
            </a:b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ile=100 Kb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- чакаш ХХХ sec/min да се заредят тия 100 Kb. В този различен начин за зареждане, времето за чакане се скъсява значително, защото правим 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preload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</a:rPr>
              <a:t>само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първата сцена с големите по размер символи, а останалите ще се възпроизвеждат поточно, защото са под червената линия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Bandwith Profiler-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се предполага, че ще вървят гладко без да се зареждат предварите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C8AB-8CD6-44F0-BA2C-8CD0C51B56E6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2" marL="1127520" indent="-450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така от от 100Kb файл, се зареждат предварително само големите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анимаци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а те са например 45Kb (или JPG-a) и зрителят чака два пъти по-малко. Което е наистина доб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7520" indent="-450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задължително не трябва да забравяме да скрием символите от първата сц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5342-01F8-4CFF-BD53-E8587723F16F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Въвеждане и извеждане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на данни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от и във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Flash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обекти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D2E0-4A4F-41AA-9DEA-64B72347C4D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3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7715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2" marL="822600" indent="-3290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дна от най-полезните възможности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 неговата възможност да комуникира с вън-шни източници. Възможността за изпращане и получаване на данни към и от други ме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ав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еално средство за разработка на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а ни позволява да правим неща като динамично зареждане на новини, влизане и регистрация на потребители и създаване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ложения за 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186A-1115-460E-96C2-24748E0C89C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549000"/>
            <a:ext cx="88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Източникът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на данни въ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представлява мястото, от което може да зарежда външни данни (т.е. такива, които не са кодирани (програмирани) директно във файла. Например това може да е текстов файл, както видяхме в една от първите ле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862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Трансферът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на данни е акт на извличане на данни от източник или изпращане на данни о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о друго приложение. В тази лекция ще се запознаем с  за различните типове източници на данни, както и за обектите и методит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ползвани за комуникация с тези източници в процеса на трансфера на дан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5920-D06D-4EB9-8634-D487069E0A0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6272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lvl="2" marL="563760" indent="-2253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ответно всички данни, които планираме да зареждаме въ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т външен източник трябва да бъдат структурирани (форматирани) по определен начин.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поддържа следните форма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51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низ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При този тип форматиране по двойки "име-стойност", променливите и техните стойности се дефинират като низ от текст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текстовият низ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teach&amp;website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teaching.com&amp;eyeColor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C919-349B-49FA-890E-E547CBF3A5C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2760" y="63000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1557360"/>
            <a:ext cx="87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финира три променлив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b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ye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съответните им стойност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teaching.com&amp;eyeColor,g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като зареди този текстов низ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втоматично ще го раздели на неговите отделни двойки "променлива-стойност", като ги направи достъпни за използване, както всички други променливи. Виждаме, че знакът за равен-ство се използва за асоцииране на име на променлива с нейната стойност, а знакът амперсанд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&amp;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аркира края на една двойка "име на променлива-стойност" и началото на друга. Форматът поддържа неограничен брой промен-ливи. Но имайте предвид, че в този формат могат да бъдат съхранявани само прости променливи; данните, съдържащи се в обекти, масиви или друг тип данни не мог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017D-33FD-4664-9C0A-C88C85F735B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GORO</cp:lastModifiedBy>
  <dcterms:modified xsi:type="dcterms:W3CDTF">2004-11-06T02:20:34Z</dcterms:modified>
  <cp:revision>796</cp:revision>
  <dc:subject/>
  <dc:title>Slide 1</dc:title>
</cp:coreProperties>
</file>