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4F75D-AD63-4CA5-8354-2E04B882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2EA8-4AD7-41C7-8DBD-1EC9AC48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2B2A-1906-483F-86CB-160A9D26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332C-D216-4D73-95D4-F59479A4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CA06-3B65-4A9A-8283-05B5F37D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ACAAB-8E78-4A9D-BD4E-5B56EB52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0A7FF-24D1-4B91-A9B7-1AEF6426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62EF9-49BD-4C1E-8F42-E38CD57F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37420-17F8-4CC8-8A91-5A8A344F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07BD2-2A08-4126-844D-E101B292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2BF5F-6459-41A2-A506-8AB080C4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C161-860C-40AA-8A1F-F8D901ED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01920" y="6121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2AA0-425B-442D-A5DC-039B97BE8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11.2004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523880" indent="-609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исък с Уеб услуги, предоставен от </a:t>
            </a:r>
            <a:r>
              <a:rPr b="0" lang="en-US" sz="1800" spc="-1" strike="noStrike">
                <a:solidFill>
                  <a:srgbClr val="a50021"/>
                </a:solidFill>
                <a:latin typeface="CourierCyr"/>
              </a:rPr>
              <a:t>http://www.xmethods.com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961320" cy="452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BB98A-BC0A-43BA-9D82-62B0D46D3A0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523880" indent="-609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исък с Уеб услуги, предоставен от </a:t>
            </a:r>
            <a:r>
              <a:rPr b="0" lang="en-US" sz="1800" spc="-1" strike="noStrike">
                <a:solidFill>
                  <a:srgbClr val="a50021"/>
                </a:solidFill>
                <a:latin typeface="CourierCyr"/>
              </a:rPr>
              <a:t>http://www.xmethods.com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017" t="0" r="0" b="0"/>
          <a:stretch/>
        </p:blipFill>
        <p:spPr>
          <a:xfrm>
            <a:off x="1476360" y="1916280"/>
            <a:ext cx="7102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885B0-4F6D-4DA3-B5F9-D1C64456CBD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523880" indent="-609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исък с Уеб услуги, предоставен от </a:t>
            </a:r>
            <a:r>
              <a:rPr b="0" lang="en-US" sz="1800" spc="-1" strike="noStrike">
                <a:solidFill>
                  <a:srgbClr val="a50021"/>
                </a:solidFill>
                <a:latin typeface="CourierCyr"/>
              </a:rPr>
              <a:t>http://www.xmethods.com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996" t="0" r="0" b="0"/>
          <a:stretch/>
        </p:blipFill>
        <p:spPr>
          <a:xfrm>
            <a:off x="1403280" y="1927080"/>
            <a:ext cx="7104240" cy="452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F260-6099-4FFC-B169-F2A92D31DEE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lvl="2" marL="944640" indent="-3776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мпонентът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WebServiveConn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XML.sendAndLoad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за да комуникира с уеб услугата. Затова е подчинен на същите ограничения за сигурност, създадени при зареждане на данни от един на друг домейн. Съответно там, където ни е услугата трябва да ни е разрешен достъпа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rossdomain.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ай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4640" indent="-3776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 сега малко практик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4640" indent="-3776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A0990-3765-4191-96CA-A088211FFF8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523880" indent="-609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исък с Уеб услуги, предоставен от </a:t>
            </a:r>
            <a:r>
              <a:rPr b="0" lang="en-US" sz="1800" spc="-1" strike="noStrike">
                <a:solidFill>
                  <a:srgbClr val="a50021"/>
                </a:solidFill>
                <a:latin typeface="CourierCyr"/>
              </a:rPr>
              <a:t>http://www.xmethods.com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7238880" cy="452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D8D8A-9FEC-40BD-A4ED-1A19192A116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19556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2" marL="639720" indent="-2559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Използване на метода Load Movie в сайт. Предимства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) Създаваме анимациите, които искаме да зареждаме отдалечено. Като избираме едно за контейнер (това, в което ще се зареждат всички други). То винаги ще се остане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0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а другите ще ги зареждаме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 и нагоре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2) Всяко филмче зареждаме като натиснем съответния бутон. Като за всеки един сме прикрепил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Script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(releas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loadMovie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(“име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анимация.swf", номер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ни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3368E-7F87-49F7-8928-4C49450230D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19556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lvl="2" marL="518040" indent="-2070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 за използване на  HTML форматиране във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lash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жем да присвоим HTML низ на текстово поле, използвайки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ActionScript ка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18040" indent="-207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Създаваме си текстово поле на желаното място на сцената. Като е важно да запомните, че само Dynamic и Input текстовите полета поддържат такова форматиране. 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В случая избираме:  Dynamic Text from the pop-up menu. А във полето Var въвеждаме: 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testBox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и 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лагаме отметки за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Selec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HTML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. 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В нов сл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1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ишем: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testBox = “&lt;B&gt;This is bold text&lt;/B&gt;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C2173-042A-463C-8573-74F94CE3937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19556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lvl="2" marL="426600" indent="-1706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 за използване на  HTML форматиране във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lash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myTextLink =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"&lt;a href=\"http://www.macromedia.com\"&gt; Macromedia,Inc.&lt;/a&gt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myTextBold = "&lt;b&gt;Macromedia, Inc.&lt;/b&gt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myTextColor = "&lt;font color=\"#663399\"&gt;Macromedia, Inc.&lt;/font&gt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myTextItalics = "&lt;i&gt;Macromedia, Inc.&lt;/i&gt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myTextCombo = "&lt;p align=\"right\"&gt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&lt;a href=\"http://www.macromedia.com\"&gt;&lt;b&gt;&lt;font color =\"#000099\" size = \"14\" face=\"Times New Roman\"  &gt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&lt;i&gt;Macromedia, Inc.&lt;/i&gt;&lt;/font&gt;&lt;/b&gt;&lt;/a&gt;&lt;/p&gt;"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 за използване на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SS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 форматиране във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lash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72D2D-0813-45E0-8E4D-C4DCDF25C62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2286000"/>
            <a:ext cx="786924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WEBSERVERCONNECTOR.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HTML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 </a:t>
            </a:r>
            <a:br>
              <a:rPr sz="3200"/>
            </a:b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SS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lash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Практика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1206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ЛЕКЦИЯ № 6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05414-B80D-40D8-BDF1-D04D410F0C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07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04840" y="1855800"/>
            <a:ext cx="7788240" cy="25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Използване на компонента 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WEBSERVERCONNECTOR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една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ет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им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A2B2-F4D5-4600-8D71-863303EAF9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6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38280" y="1782360"/>
            <a:ext cx="67788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ash MX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снови н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Използване на клас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Използване на сокет сървъ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38280" y="3871800"/>
            <a:ext cx="67788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Практик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bg-BG" sz="3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D626B-41D9-42E2-928F-6DE6597670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356000" y="3460680"/>
          <a:ext cx="1413000" cy="12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3460680"/>
                    <a:ext cx="141300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FB5E7-D5E2-4EAF-B331-611C1E13E20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lvl="2" marL="731160" indent="-2923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йки компонен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erviceConnector, 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нимацията се свързва с Уеб услуга и може да зареди информация от нея. Като под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уеб услуг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разбираме сървърно приложение, приемащо данни, извършващо дейности, базирани на тези данни и връща резултат. Например една такава услуга може да ни позволи по подаден от потребителя пощенски код, да ни върне областта, на който й съответства. Или по подаден грешен текст да открие неправилните части и да върне правилното му съответ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160" indent="-2923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пратим данни на една уеб услуга въ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трябва да ги подадем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ормат. И по-точ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орматът трябва да отговаря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 (Simple Object Access Protocol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танда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CE95-C404-439A-92F8-778A37F2948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2" marL="639720" indent="-25596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ук точно се намесва компонен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erviceConnecto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Той ни спасява от необходимостта да разучаваме посочения протокол като се занимава с процеса на конвертиране на данните, предназначени за уеб услугата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Съответно след като ги прати,  полу-чава и парсв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мпонентът има 5 параметър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WSDLU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адресът на файла, който дефинира операцията на Уеб услугата. При въвеждане на стойност на този параметър, средата за разработка на Флаш автоматично се опитва да зареди посочения файл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operation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след като се зареди файла, посочен в горния параметър тук можем да изберем от падащ списък операцията, която искаме да изпъл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28D1A-67C0-4C86-9D94-39B0E3527FD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2" marL="624600" indent="-249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мпонентът има 5 параметър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multipleSimultaneousAllo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приема за стойност истина или лъжа. При избор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яма да изпълни повече заявки докато не получи отговор на текущата заявка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suppressInvalidCalls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отново приема за стойнос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следната роля. Ако е зададен като истина и заявката ни за уеб услуга не съдържа указания тип данни, необходим за обработка на заявката, тя просто не се изпраща, ако 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явката се изпраща, независимо от въведения тип данни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timeout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незадължителен параметър. В него въвеждаме число или нищо. Като числото показва броя секунди, през което компонента ще чака отговор на заявката. Изтекат ли... заявката се отм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E6AEA-C8FF-4C46-8F2E-3AA66938A2C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lvl="2" marL="533160" indent="-2131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видим как се променя динамично страница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в инспектора на компонентите, според стой-ностите на първите два параметъра на компон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3160" indent="-2131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 като сме задали исканата уеб услуга създаваме инстанция на компонента и я именуване. А за да накараме инстанцията да изпълни заявката за услуга, трябва да извикаме метода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trigger(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име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_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инстанция.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trig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3160" indent="-213120">
              <a:spcBef>
                <a:spcPts val="300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зи метод взима свойство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s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форматира заявката, изпраща я и чака отговор. Който стартира събитие, наречено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о за да го уловим ни трябва слушател за него. Например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function distanceReceived (ev:Object) 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var razstoyanie: = ev.target.result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postcode_ws.addEventListener(“results”, distanceReceive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5CA99-F224-4A2B-8F42-FC89962C409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4:31Z</dcterms:created>
  <dc:creator>May</dc:creator>
  <dc:description/>
  <dc:language>en-US</dc:language>
  <cp:lastModifiedBy>GORO</cp:lastModifiedBy>
  <dcterms:modified xsi:type="dcterms:W3CDTF">2004-11-13T01:42:44Z</dcterms:modified>
  <cp:revision>851</cp:revision>
  <dc:subject/>
  <dc:title>Slide 1</dc:title>
</cp:coreProperties>
</file>