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2C37-8794-40CC-896C-01C2948B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A57E-A0B0-4A69-8DF9-9B73C4AE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326-6CA0-419E-9921-012B15D7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74F6-18A7-4716-AAA6-FFF44204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D644-1069-4CB3-AA47-0F829DB2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F9E8-BB76-4B07-880B-DB6894C2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A63E-2851-4994-9C29-B4D3E81E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8C2E-FA7E-419B-A1C5-73187B34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AE5E-CCAA-49F1-B04E-25C7C890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E153-7094-4ABA-A6AB-C36583DE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3896-4382-4740-9814-FDF0A619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28CB-613E-4782-8193-D955ECAA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3050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.11.2004 </a:t>
            </a:r>
            <a:r>
              <a:rPr b="0" lang="bg-BG" sz="1400" spc="-1" strike="noStrike">
                <a:solidFill>
                  <a:srgbClr val="ffffff"/>
                </a:solidFill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4320" y="60955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895A-CA51-43B5-9829-AC9907CCEBFF}" type="slidenum">
              <a:rPr b="0" lang="sr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E3F1-6873-4FB3-BCD2-7E3D11FDA7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Текстови възли</a:t>
            </a:r>
            <a:br>
              <a:rPr sz="2200"/>
            </a:br>
            <a:br>
              <a:rPr sz="22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екстовите възли представляват текста, който описвате,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по-специално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” текста, описан 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ози текст може да е разположен на повече от един ред. Порад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форматирането в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файла и структуринето на таго-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ете (с елемен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 някои символи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екстовите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ъзли, които не могат да се използват или трябва да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е използват по определен начин, за да не нарушат правилното форматиране на документа.</a:t>
            </a:r>
            <a:br>
              <a:rPr sz="2000"/>
            </a:br>
            <a:r>
              <a:rPr b="0" lang="bg-BG" sz="2000" spc="-1" strike="noStrike">
                <a:solidFill>
                  <a:srgbClr val="800000"/>
                </a:solidFill>
                <a:latin typeface="Arial"/>
              </a:rPr>
              <a:t>Ако това все пак стане, се казва, че документа не е форматиран правил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71C-AACB-4C55-8D61-A19DC7ED0B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34136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ези определени символи трябва да се заменят с техни обек-тни референции. Това важни в най-голяма степен за “&lt;” и “&amp;” Съществуват 5 предефинирани такива за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, които трябва да заместваме: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05120" y="2666880"/>
          <a:ext cx="6248160" cy="2965680"/>
        </p:xfrm>
        <a:graphic>
          <a:graphicData uri="http://schemas.openxmlformats.org/drawingml/2006/table">
            <a:tbl>
              <a:tblPr/>
              <a:tblGrid>
                <a:gridCol w="2666520"/>
                <a:gridCol w="3581640"/>
              </a:tblGrid>
              <a:tr h="66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имв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4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меня се в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4f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'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apos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quo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454D-06DC-4F46-ADCB-70CF7755F4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341360"/>
            <a:ext cx="76197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incorrect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It is clearly stated that variable A &lt; variable B &amp; variable A &gt; variable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lt;/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incorrect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acceptable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It is clearly stated that variable A 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&amp;lt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 variable B 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&amp;amp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 variable A &gt; variable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lt;/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acceptable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&lt;!--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бележете, че не напълно задължително да заместите зна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&gt;“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Но за 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“ 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” е. Макар и да е във ваш интерес и е добра практика да използвате указаните в таблицата референции. 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best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It is clearly stated that variable A 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&amp;lt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 variable B 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&amp;amp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 variable A 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&amp;gt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 variable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lt;/</a:t>
            </a:r>
            <a:r>
              <a:rPr b="1" lang="en-US" sz="1800" spc="-1" strike="noStrike">
                <a:solidFill>
                  <a:srgbClr val="000000"/>
                </a:solidFill>
                <a:latin typeface="Courier New Cyr"/>
              </a:rPr>
              <a:t>best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61BB-E195-415E-9CC6-DBD5089E61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341360"/>
            <a:ext cx="76197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трибу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 още един тип структури от данни, наречени атрибути (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attributes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рибут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а допълнител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икновено пр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ойности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ито могат да се включва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елемент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е се състоят от и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ойност, указана в рамките на отворения таг на елемент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о атрибути могат да имат само елементите без деца и то тези атрибути не трябва да съществуват под формата на елементи по-долу в йерархията. В един елемент може да имате толкова атрибути, колкото иска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мер за атрибути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 Cyr"/>
              </a:rPr>
              <a:t>letter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 to="Sandy" from="Pet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I love you!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Courier New Cyr"/>
              </a:rPr>
              <a:t>letter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1A1B-BEA1-496B-9002-CAF95FF798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341000"/>
            <a:ext cx="761976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трибути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 могат да съдържат комплексна информация. Стойностите им се заграждат с кавички или апостроф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ледователно не могат да съдържат кавички – поне не такива, които са използвани при дефиницията и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сто, ако се наложи употребата им трябва да използвате 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escape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кодовете за наклонена чер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\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ова действие се прилага също и за табулаци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(\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овите редо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\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743200" y="3657600"/>
          <a:ext cx="4876920" cy="2009880"/>
        </p:xfrm>
        <a:graphic>
          <a:graphicData uri="http://schemas.openxmlformats.org/drawingml/2006/table">
            <a:tbl>
              <a:tblPr/>
              <a:tblGrid>
                <a:gridCol w="2286000"/>
                <a:gridCol w="2590920"/>
              </a:tblGrid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4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меня се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3f4f5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булац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\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#09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 ре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\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#1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ъщане на кареткат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\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#13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7DAE-0F45-4EFF-9EB8-F604F3BF21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341360"/>
            <a:ext cx="76197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използваме таговете о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аже и в първия да нямат затварящ, то е задължително да ги затворим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Например вместо 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br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рябва да напишем: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Courier New Cyr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br</a:t>
            </a:r>
            <a:r>
              <a:rPr b="1" lang="bg-BG" sz="2000" spc="-1" strike="noStrike">
                <a:solidFill>
                  <a:srgbClr val="000000"/>
                </a:solidFill>
                <a:latin typeface="Courier New Cyr"/>
              </a:rPr>
              <a:t> /</a:t>
            </a:r>
            <a:r>
              <a:rPr b="1" lang="en-US" sz="2000" spc="-1" strike="noStrike">
                <a:solidFill>
                  <a:srgbClr val="000000"/>
                </a:solidFill>
                <a:latin typeface="Courier New Cyr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рябва да кодирате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всички специални символи – което може да направите с помощта на функцията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escap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ъ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еб страниците често използват текстови файлове, които съдържа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орматирана информация – напр. Статиче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файл за съхраняване на данни за това кои динамични страници (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P…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да се извикат или към кой порт и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дрес да се свържат, когато се опитват да се свържат със сокет сървъ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DC06-DBA5-482F-B5E6-F35FE086E5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Използване на клас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341360"/>
            <a:ext cx="76197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 клас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може да направите следните неща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форматиран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парсван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(извличане на информацията от форматирания файл)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зареждане или изпращан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 негова помощ може да заредим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от външен източник като статичен файл или сървърен скрипт. А след като сме заредили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документа да поллучим достъп до информацията в него с помощта на методите и свойствата на класа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. Може да създадем и собствен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файл, който да използваме във филм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ли да го изпратим на сървърен скрип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ED37-5B9B-4C57-BE66-1E21224571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777777"/>
                </a:solidFill>
                <a:latin typeface="Arial"/>
              </a:rPr>
              <a:t>Форматиране на </a:t>
            </a:r>
            <a:r>
              <a:rPr b="0" lang="en-US" sz="36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341360"/>
            <a:ext cx="76197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да създадем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обект въ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трябва да използваме конструктора на класа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var myXML:XML = new XM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да създадем след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: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MyClassMate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&lt;name gender=“male”&gt; Ivan Ivanov &lt;/nam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 &lt;name gender=“female”&gt; Maria Draganova &lt;/name&gt;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/MyClassMate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</a:t>
            </a: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рябва: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1) да създадем документа като низ;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2) да конвертираме низа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обект с помощта на конструкт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XML(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клас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mySt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MyClassMate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=&gt;&lt;name gender=\“male\”&gt; Ivan Ivanov &lt;/nam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=&gt;&lt;name gender=\“female\”&gt; Maria Draganova &lt;/name&gt;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/MyClassMate</a:t>
            </a:r>
            <a:r>
              <a:rPr b="0" lang="bg-BG" sz="1800" spc="-1" strike="noStrike">
                <a:solidFill>
                  <a:srgbClr val="000000"/>
                </a:solidFill>
                <a:latin typeface="Courier New Cyr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 var myXML:XML = new XML(myStrin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0200-5BF6-432D-BB4C-B90739385C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777777"/>
                </a:solidFill>
                <a:latin typeface="Arial"/>
              </a:rPr>
              <a:t>Парсване на </a:t>
            </a:r>
            <a:r>
              <a:rPr b="0" lang="en-US" sz="36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240" y="1341360"/>
            <a:ext cx="7620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Pa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= анализиране, разлагане на части на нещ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войства на клас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firstChi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очи към първия възел в дървовидната структу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childNodes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nextSibl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очи към следващия възел на същото ниво в структур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ttribu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ръща асоциативен масив от имена на атрибу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C6A3-3912-497F-BD73-2C80638756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Зареждане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240" y="1341360"/>
            <a:ext cx="7620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заред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от отдалечен източник трябва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1) създаде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обект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2) да използваме метод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(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обекта, за да заред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форматирани данни от външен източник.: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var myXML: XML = new XML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myXML.load(“http://ime_domain.com/imeXMLfile.xml”);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*тук може да се укаже и динамичен скриптов файл, чийто резултат е скриптова страница.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определим кога еди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документ се е заредил в даден обект, използваме събитието 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onLoad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обекта. 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 да укажем на това събитие да вика функция при завършване на зареждането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файла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function init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ук трябва да парснем скрипта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}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CA52-54A0-4BD2-9702-3383A6449C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1676520"/>
            <a:ext cx="786924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зползване н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XML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с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LASH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99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700" spc="-1" strike="noStrike">
                <a:solidFill>
                  <a:srgbClr val="808080"/>
                </a:solidFill>
                <a:latin typeface="Arial"/>
              </a:rPr>
              <a:t>ЛЕКЦИЯ № </a:t>
            </a:r>
            <a:r>
              <a:rPr b="1" lang="en-US" sz="3700" spc="-1" strike="noStrike">
                <a:solidFill>
                  <a:srgbClr val="808080"/>
                </a:solidFill>
                <a:latin typeface="Arial"/>
              </a:rPr>
              <a:t>7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815-C136-4058-B5A7-414DE513987D}" type="slidenum">
              <a:t>2</a:t>
            </a:fld>
          </a:p>
        </p:txBody>
      </p:sp>
    </p:spTree>
  </p:cSld>
  <p:transition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Зареждане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240" y="1341360"/>
            <a:ext cx="7620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едният пример илюстрира, че когато зареждането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файла приключи ще бъде извикана функцията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init()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нея трябва да напишем специален код за интерпретиране на данните, описани от наш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айл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78C6-985E-42A4-AEA3-1164B60AFA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Изпращане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240" y="1341360"/>
            <a:ext cx="7620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Чрез методит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класа може да изпращам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адрес. Като същевременно с това да заредим резултатния доку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изпрат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трябва да използваме метод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send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да укажем предназначе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дре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myXML:XML = new XML(“&lt;message&gt;&lt;text&gt;Hi!&lt;/text&gt;&lt;/message&gt;”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XML.send(</a:t>
            </a: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“http://ime_domain.com/destinacia.php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изпратим и едновременно с това да получим отговор трябва да използвам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AndLoad(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тода на клас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788-D4C7-4972-9845-405217501E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2111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</a:t>
            </a:r>
            <a:r>
              <a:rPr b="0" lang="bg-BG" sz="4400" spc="-1" strike="noStrike">
                <a:solidFill>
                  <a:srgbClr val="800000"/>
                </a:solidFill>
                <a:latin typeface="Arial"/>
              </a:rPr>
              <a:t>снови на 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O</a:t>
            </a: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нови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646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(eXtensible Markup Language) e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зик за форматиране на данни чрез използване на етикети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ужи за лесно обозначаване (маркиране) 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формация в рамките на обикновен текстов фай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дно от основните негови пред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 възможността за съхраняване на тази информация в йерархичен вид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ова означава, че можете да я разделите на парче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актичес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те да мислите 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като т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ово описание на йерархична файлова система, съхраняваща текстова информаци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Е е скриптов език и реално не “върши” нищо, макар средствата, с които си служи да напомнят такъв. Навсякъде, където нормално използвате текстов файл можете да го заместите 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Снабдявайки се така със структурираност и яснота на конкретото съдържан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повече информация относ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 да погледнете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 Cyr"/>
              </a:rPr>
              <a:t>http://www.xml.com/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 Cyr"/>
              </a:rPr>
              <a:t>http://www.w3.org/XML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FD52-E97E-4CA1-A065-26651DC466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оглеждай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приме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ще забележите, че много прилича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.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същн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TML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ML (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мака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TML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а се 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оявил пред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ML –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 двата са създадени на баз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G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яхната структура в много отношения е еднак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ример з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фай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&lt;lett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&lt;to</a:t>
            </a:r>
            <a:r>
              <a:rPr b="0" lang="bg-BG" sz="2400" spc="-1" strike="noStrike">
                <a:solidFill>
                  <a:srgbClr val="000000"/>
                </a:solidFill>
                <a:latin typeface="Courier New Cyr"/>
              </a:rPr>
              <a:t>&gt; Мария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&lt;/to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&lt;from&gt;</a:t>
            </a:r>
            <a:r>
              <a:rPr b="0" lang="bg-BG" sz="2400" spc="-1" strike="noStrike">
                <a:solidFill>
                  <a:srgbClr val="000000"/>
                </a:solidFill>
                <a:latin typeface="Courier New Cyr"/>
              </a:rPr>
              <a:t> Игнат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&lt;/fro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&lt;body&gt;</a:t>
            </a:r>
            <a:r>
              <a:rPr b="0" lang="bg-BG" sz="2400" spc="-1" strike="noStrike">
                <a:solidFill>
                  <a:srgbClr val="000000"/>
                </a:solidFill>
                <a:latin typeface="Courier New Cyr"/>
              </a:rPr>
              <a:t> Как си?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&lt;/lett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E2EF-B515-48B5-B085-670CD73684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 аналогия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файл-пап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тикета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едставя папка, съдържащ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3 други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. Всички те описват съдържанието 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ложението на едно писм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сяка една папка съдърж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преде-л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екст съответстващ на типа 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bg-BG" sz="24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i="1" lang="bg-BG" sz="2400" spc="-1" strike="noStrike">
                <a:solidFill>
                  <a:srgbClr val="000000"/>
                </a:solidFill>
                <a:latin typeface="Arial"/>
              </a:rPr>
              <a:t>съдържа информация за получателя на писмот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ъдържанието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окумен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тикети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нформацията в тя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е разглеждат като въз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ези въз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сновни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граждащ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блоков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ML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, определящи кое какво 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 примера има 2 тип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ъзли: елементи и текст въз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лемен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Мария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Игнат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“Как си?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екс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ъз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A06C-59E4-428D-B899-E7E2FDDF91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на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Възли елементи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злите елементите представлява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ML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аговет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ли папки, етике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нашия пример елемента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” е коренният -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лемент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окумен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Желателно е да има само един коренен етикет за все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фай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ака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lash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а не е толкова строг за то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Всички други елементи трябва да бъдат поставени в него, определяйки цялостната структура на доку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огато един възел се съдържа в друг, се обозначава като “дете” на съдържащия 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A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ругия като родителски (“родител”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добно на родословно дър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лементът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“деца”: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одителският възел на всеки от тях е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секи елемент 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ML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рябва да има отварящ и затварящ етикет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лементи без съдържание между отварящия и затварящ таг, или нямащи “деца” (кат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o&gt;&lt;/to&gt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е нарича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азни елемен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огат да се запишат алтернативно кат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ме_елеме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&gt;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случая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&lt;to /&gt;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ъдето имаме един таг, затварящ себе с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о имайки сам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o&gt;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тваряне ще бъде неправил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D50E-F6C7-4C0E-9033-CFDF97E11F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на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гато именува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лемен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ъществуват правила, които да спазва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ената на елементи трябва да съдържат само символи. Това включ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букв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циф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(_)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ире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-)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оч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.)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воеточ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:)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воеточие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ипично само з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азделител на именувани пространст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акар изброените символи да са валидни, имената на елементите могат да започват само с букви или долна подчертавка “_”. Освен това имената на елементи не трябва да започват 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xml“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ената на етикетите са чувствителни към регистъра. Тоест прави се разлика между малки и големи букв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ag&gt;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е различно о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ag&gt;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андартн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агове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е пишат с малк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укв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чес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етикет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а с голе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7F1-68AF-4E0C-93F8-C60B08E44A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77777"/>
                </a:solidFill>
                <a:latin typeface="Arial"/>
              </a:rPr>
              <a:t>Структура на 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айла може да използваме еднакъв етикет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ного пъти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let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to&gt;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M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ария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/to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to&gt;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 Ивелина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/to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to&gt;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 Петър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/to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from&gt;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 Игнат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/fr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body&gt;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 Как си? 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&lt;/let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3F1-D024-491A-9543-FF0FD9113E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9:44:27Z</dcterms:created>
  <dc:creator>SP_03</dc:creator>
  <dc:description/>
  <dc:language>en-US</dc:language>
  <cp:lastModifiedBy>GORO</cp:lastModifiedBy>
  <dcterms:modified xsi:type="dcterms:W3CDTF">2004-11-20T01:53:27Z</dcterms:modified>
  <cp:revision>182</cp:revision>
  <dc:subject/>
  <dc:title>Slide 1</dc:title>
</cp:coreProperties>
</file>