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52C-C81A-4A7E-B174-66FDE1F9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899-BFF7-492D-8839-FB4A1ADD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297-B3FA-427B-A9AA-6740FE1E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4B4-B771-4802-A647-842F89A5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B32-BAD6-44A6-904A-0B896A0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E9F-CD93-45F6-B98D-348EBFE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D82-D7D2-4254-BA24-B02AF763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E5-12EC-4F02-994F-B2C7AF5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FE2-D287-419A-9BCC-1E94AA3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203-4A35-4A49-AB63-D98CA9B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039-B463-48CB-B1C4-21416F8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786-3405-4961-883C-1E06084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262C-56E8-4C25-95D6-6FFBBAD9CB06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03F-4227-45AB-99DC-0B9B24EF70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 този метод веднъж създадената празна инстанция можем да я пълним като прикрепяме нови филмчета.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_root.createEmptyMovieClip(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depth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инамично да чертаем линии във филм, докато той се възпроизвежда – това се подпомага от множеството методи, които ни предоставя нагото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тяхна помощ можем да: нарисуваме линия от текуща позиция за чертане до зададена от нас точка, преместим текущата позиция на чертане без да чертаем,  зададем стил на линията за дадената времедиаграма, запълване на фигура с цвят или градиент, чертане на крива между две точки, триене във времедиаграма на линии и прели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68D-6888-4707-A6AA-3B0D2275E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debelina,color,alph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ebeli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 м/у 0 и 2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x,y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зрачен зелен квадрат:</a:t>
            </a:r>
            <a:br>
              <a:rPr sz="2000"/>
            </a:br>
            <a:r>
              <a:rPr b="0" lang="bg-BG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_root.createEmptyMovieClip("newBox"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with (_root.newBo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beginFill(0x00ff00, 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moveTo(100, 1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3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3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5F4-55AA-4C48-ACB8-D65F699866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 кръг с очертание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_root.createEmptyMovieClip( "newCircle", 3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with ( _root.newCircle ) {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 4, 0x666666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eginFill( 0xff0000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400, 4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200, 300, 2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200, 2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400,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B4B-888B-4111-8371-B6CD3CF58D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25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Създаване на скриптове з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I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мпоненти. Отпечатване и 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нтекстни мен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739-E1B2-4A33-86F7-1C21CC6B2A97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 разгледаните до сега уроци използвахме клипове, бутони, кадри, за да предизвикаме изпълнението на дадено събитие. Сега ще разясним как да обработваме инстанции на филмови клипове – да ги дублириме, прикрепяме, оцветяваме, рисуваме, имитирайки моли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Ето защо, в настоящата лекция ще наблегнем повече на практиката, за да разберем по-добре тем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294-B228-4E8B-BB8B-547FE02C3F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инамичното създаване на инстанция на филмов клип става с помощта на един от следните методи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ублиране на съществуваща инстанция на клип като се създава нова негова инстанция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така се създава нова инстанция на клип от самата библиотек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ъздава се празна инстанция на клип, несъдържаща никакви данни или графично съдърж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Ще използваме в следващото упражнение всяка от т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81C-7917-4FD6-A7DF-D949597C7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този метод може да окаже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дублира съществуваща в момента инстанция на клип. Но ако тя се намира на друг фрейм или още не е на сцената това не е възможно да стане. Освен това можем да дублираме филмчето само във времедиаграмата, на която се намира оригинала му. За да избегнем това неудобство се използва вторат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ублираното филмче наследява всички текущи физически свойства на родителя си: позиция, мащаб, прозрачност и др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 то 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следява: променливи, масиви, обекти, видимост, име, текущ кадъ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70B-EE1A-47D2-AE48-FF173E1E7C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ублираното филмче започва да се възпроизвежда от кадър 1, дори и оригиналът да е бил в друг кадър на времедиаграмата при създаване на копие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интаксис за дублиране на фил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me_klip.duplicateMovieClip(name, depth, object);</a:t>
            </a:r>
            <a:br>
              <a:rPr sz="1800"/>
            </a:b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name:String = “cat_mc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depth:String = 1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at_mc.duplicateMovieClip(name, dept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58E-CB33-4038-AC61-6DF205B3F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30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30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 този метод може динамично да си изваждаме инстанции от библиотеката. Прикрепеният филм става наследник на времедиаграмата, към която е прикрепен. Новото филмче запазва видимостта си и другите характеристики, които не можеха да се наследят при използване на първия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крепената инстанция не трябва да е на сцената, когато искаме да я прикрепя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5D3-C07D-4758-AA0F-1EE4844C99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лко стъпки, през които трябва да минем, за да използваме този метод. Първо трябва да окажем в библиотеката кои филмови клипове искаме да направим достъпни за прикрепяне. Това се нарича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вързван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linkage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е терми, отнасящ се за споделяне на библиотеки, при което акти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якоя библиотека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ове се свързват, или споделят, с дру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_root.attachMovieClip(“kvadrat”,”dynamic_kvadrat_mc”,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onEnterFrame = function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_rotation +=1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7A2-B961-4689-9C50-61FDB327E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7T01:46:57Z</dcterms:modified>
  <cp:revision>233</cp:revision>
  <dc:subject/>
  <dc:title>Slide 1</dc:title>
</cp:coreProperties>
</file>